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7.xml.rels" ContentType="application/vnd.openxmlformats-package.relationships+xml"/>
  <Override PartName="/ppt/notesSlides/_rels/notesSlide78.xml.rels" ContentType="application/vnd.openxmlformats-package.relationships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53640" y="685440"/>
            <a:ext cx="4948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 u="sng">
                <a:solidFill>
                  <a:srgbClr val="00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E0AA1-D7BF-4ED4-928B-807978159E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954000" y="68580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sse slide está com um erro no original. A lozalização de conteúdo é centralizada e não descentr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54000" y="68580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BE79-382D-42F1-92FC-158BEF872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D017-FC94-4A98-80D7-3D7C5344C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FD8A-0AA8-468C-98D6-423225AE2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89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1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50B8-83BD-4126-ABF4-92687C954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6FF5-0968-48B5-BDC1-F42D194E0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089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2120" y="3968280"/>
            <a:ext cx="2869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8D82-EE2E-47D4-823F-887B09318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BB5A-AEE8-4683-B8F5-C7A34E96B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2840-4EDB-46B5-AFF0-C6FDB0211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D446-DB67-49AB-934B-2BA8540AA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457E-549C-4BA6-9E19-4D058729E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960" y="39682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7A7E-8F68-4C32-A3B4-0CD3999B9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968280"/>
            <a:ext cx="8912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26C4-CD1C-403D-9376-B825E3A85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4680"/>
            <a:ext cx="9140760" cy="990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06200"/>
            <a:ext cx="91407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240" y="-148680"/>
            <a:ext cx="761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400" spc="-1" strike="noStrike">
                <a:solidFill>
                  <a:srgbClr val="0099ff"/>
                </a:solidFill>
                <a:latin typeface="CB Futura CondensedBold 2"/>
              </a:rPr>
              <a:t>2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30840"/>
            <a:ext cx="906768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142560" y="6021360"/>
            <a:ext cx="760320" cy="83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-360" y="6567480"/>
            <a:ext cx="9901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2 - </a:t>
            </a:r>
            <a:fld id="{80F16B6A-B0A9-4B5E-9E89-4939757659E9}" type="slidenum">
              <a:rPr b="0" lang="en-GB" sz="1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0760" y="6580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rebuchet MS"/>
              </a:rPr>
              <a:t>© 2005 by Pearson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 u="sng">
                <a:solidFill>
                  <a:srgbClr val="00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1828800"/>
            <a:ext cx="9902880" cy="1143000"/>
          </a:xfrm>
          <a:prstGeom prst="rect">
            <a:avLst/>
          </a:prstGeom>
          <a:solidFill>
            <a:srgbClr val="7c83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0"/>
            <a:ext cx="9902880" cy="533520"/>
          </a:xfrm>
          <a:prstGeom prst="rect">
            <a:avLst/>
          </a:prstGeom>
          <a:solidFill>
            <a:srgbClr val="7c83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0" y="6400800"/>
            <a:ext cx="9902880" cy="457200"/>
          </a:xfrm>
          <a:prstGeom prst="rect">
            <a:avLst/>
          </a:prstGeom>
          <a:solidFill>
            <a:srgbClr val="7c83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8288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Kabel Bk BT"/>
              </a:rPr>
              <a:t>Capítul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828800"/>
            <a:ext cx="327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Kabel Bk B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52280"/>
            <a:ext cx="9677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d336b"/>
                </a:solidFill>
                <a:latin typeface="Kabel Ult BT"/>
              </a:rPr>
              <a:t>Redes de computadores e a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7339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7c83c8"/>
                </a:solidFill>
                <a:latin typeface="Kabel Bk BT"/>
              </a:rPr>
              <a:t>Cama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7c83c8"/>
                </a:solidFill>
                <a:latin typeface="Kabel Bk BT"/>
              </a:rPr>
              <a:t>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7c83c8"/>
                </a:solidFill>
                <a:latin typeface="Kabel Bk BT"/>
              </a:rPr>
              <a:t>apl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66"/>
          <a:stretch/>
        </p:blipFill>
        <p:spPr>
          <a:xfrm>
            <a:off x="5826240" y="977760"/>
            <a:ext cx="4079880" cy="5435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 u="sng">
                <a:solidFill>
                  <a:srgbClr val="00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8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Naps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ferência de arquivo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Busca centralizada de arquivo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teúdo de registro dos pares no servidor cent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sulta de pares no mesmo servidor central para localizar o conteú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Instant messag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Bate-papo entre dois usuários é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tecção/localização centralizada de presenç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ário registra seu endereço IP com o servidor central quando fica on-l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ário contata o servidor central para encontrar endereços IP dos vizinh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Híbrida de cliente-servidor e P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866E-320E-4CDD-8FA8-AC55297546AF}" type="slidenum">
              <a:t>10</a:t>
            </a:fld>
          </a:p>
        </p:txBody>
      </p:sp>
    </p:spTree>
  </p:cSld>
  <p:transition>
    <p:diamond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427120" y="1529280"/>
            <a:ext cx="747576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io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net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ass UDPClient 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public static void main(String args[]) throws Excep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ufferedReader inFromUser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BufferedReader(new InputStreamReader(System.in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gramSocket clientSocket = new DatagramSocket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netAddress IPAddress =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netAddress.getByName("hostname"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yte[] sendData = new byte[1024]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yte[] receiveData = new byte[1024]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sentence = inFromUser.readLine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endData = sentence.getBytes();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5840" y="2917800"/>
            <a:ext cx="2277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tream de entr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7520" y="3616200"/>
            <a:ext cx="1720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ocket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104760" y="4329000"/>
            <a:ext cx="2467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Transl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nome d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hospedeiro par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ndereço 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usando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03640" y="2971800"/>
            <a:ext cx="13464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448000" y="3403440"/>
            <a:ext cx="350640" cy="79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3695760"/>
            <a:ext cx="162000" cy="571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443320" y="4051440"/>
            <a:ext cx="355320" cy="936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410000"/>
            <a:ext cx="162000" cy="1457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454120" y="4556160"/>
            <a:ext cx="390600" cy="17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cliente Java (UD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C8CA-948E-4973-901B-458EF2A8F6A4}" type="slidenum">
              <a:t>100</a:t>
            </a:fld>
          </a:p>
        </p:txBody>
      </p:sp>
    </p:spTree>
  </p:cSld>
  <p:transition>
    <p:diamond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819520" y="1757520"/>
            <a:ext cx="708336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gramPacket sendPacket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DatagramPacket(sendData, sendData.length, IPAddress,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9876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ientSocket.send(sendPacket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gramPacket receivePacket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DatagramPacket(receiveData, receiveData.length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ientSocket.receive(receivePacket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modifiedSentence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String(receivePacket.getData(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ystem.out.println("FROM SERVER:" + modifiedSentence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ientSocket.close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7680" y="988920"/>
            <a:ext cx="25909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 datagrama co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ados a enviar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tamanho, endereç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IP por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5240" y="2757600"/>
            <a:ext cx="2096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nvia datagra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para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20240" y="3832200"/>
            <a:ext cx="1755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Lê datagra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66880" y="1066680"/>
            <a:ext cx="270000" cy="1193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936880" y="2244240"/>
            <a:ext cx="371520" cy="17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49600" y="2819520"/>
            <a:ext cx="133200" cy="5857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798640" y="2955600"/>
            <a:ext cx="335160" cy="190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70120" y="3914640"/>
            <a:ext cx="13356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819520" y="4232160"/>
            <a:ext cx="318960" cy="79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cliente Java (UD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E932-DAA1-4A9B-9485-8A663297033B}" type="slidenum">
              <a:t>101</a:t>
            </a:fld>
          </a:p>
        </p:txBody>
      </p:sp>
    </p:spTree>
  </p:cSld>
  <p:transition>
    <p:diamond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691000" y="1717560"/>
            <a:ext cx="746064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io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net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ass UDPServer 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public static void main(String args[]) throws Excep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gramSocket serverSocket = new DatagramSocket(9876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yte[] receiveData = new byte[1024]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yte[] sendData = new byte[1024]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while(true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gramPacket receivePacket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DatagramPacket(receiveData, receiveData.length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erverSocket.receive(receivePacket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8560" y="2789280"/>
            <a:ext cx="2221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ocket datagra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na porta 987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920" y="5002200"/>
            <a:ext cx="2715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 espaço pa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atagramas receb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3320" y="5743440"/>
            <a:ext cx="2005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Receb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atagra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76440" y="2871720"/>
            <a:ext cx="16344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660760" y="3405240"/>
            <a:ext cx="453960" cy="46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57440" y="5072040"/>
            <a:ext cx="93600" cy="547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676600" y="5407200"/>
            <a:ext cx="655560" cy="1260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48080" y="5805360"/>
            <a:ext cx="149040" cy="5860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697120" y="5970600"/>
            <a:ext cx="641520" cy="17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servidor Java (UD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F147-90F8-4DB1-B376-E46608C2DEB4}" type="slidenum">
              <a:t>102</a:t>
            </a:fld>
          </a:p>
        </p:txBody>
      </p:sp>
    </p:spTree>
  </p:cSld>
  <p:transition>
    <p:diamond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252160" y="1268280"/>
            <a:ext cx="791208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sentence = new String(receivePacket.getData(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netAddress IPAddress = receivePacket.getAddress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nt port = receivePacket.getPort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capitalizedSentence = sentence.toUpperCase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endData = capitalizedSentence.getBytes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gramPacket sendPacket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DatagramPacket(sendData, sendData.length, IPAddres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       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port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erverSocket.send(sendPacket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6840" y="1425240"/>
            <a:ext cx="22669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Obtém endereço I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 número da port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o transmi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38360" y="1795320"/>
            <a:ext cx="14436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708280" y="2532240"/>
            <a:ext cx="309600" cy="17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8200" y="4494240"/>
            <a:ext cx="21560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screve o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atagrama pa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entro d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0" y="4648320"/>
            <a:ext cx="176040" cy="8190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438280" y="5027760"/>
            <a:ext cx="360360" cy="79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35440" y="5610240"/>
            <a:ext cx="26222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Termina o while loop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retorna e espera p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outro datagra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10800000">
            <a:off x="3844440" y="5626080"/>
            <a:ext cx="17316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3139920" y="5293800"/>
            <a:ext cx="704880" cy="6080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697120" y="2093400"/>
            <a:ext cx="309600" cy="17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160" y="3686040"/>
            <a:ext cx="262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 datagra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para enviar a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60600" y="3757680"/>
            <a:ext cx="176400" cy="571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657520" y="4017960"/>
            <a:ext cx="360360" cy="79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servidor Java (UD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F981-3264-4FEB-B265-D201A0D21776}" type="slidenum">
              <a:t>103</a:t>
            </a:fld>
          </a:p>
        </p:txBody>
      </p:sp>
    </p:spTree>
  </p:cSld>
  <p:transition>
    <p:diamond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73152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8FB9-CD0D-4C72-91A4-443AE5D4E760}" type="slidenum">
              <a:t>104</a:t>
            </a:fld>
          </a:p>
        </p:txBody>
      </p:sp>
    </p:spTree>
  </p:cSld>
  <p:transition>
    <p:diamond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anipule uma requisição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ceite a requisi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nalise o cabeçalh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btenha um arquivo requisitado do sistema de arquivo d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rie uma mensagem de resposta HTT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Linhas de cabeçalho + arquiv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vie a resposta para 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pós criar o servidor, você pode requisitar um arquivo usando um browser (ex.: IE explore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Veja o texto para mais detal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nstruindo um servidor Web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9D30-50F5-44A3-A39C-CA5E91DFD646}" type="slidenum">
              <a:t>105</a:t>
            </a:fld>
          </a:p>
        </p:txBody>
      </p:sp>
    </p:spTree>
  </p:cSld>
  <p:transition>
    <p:diamond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671040" y="1143000"/>
            <a:ext cx="94885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Nosso estudo de aplicações está completo agora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rquiteturas de apl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-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íbr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igências dos serviços de aplicaçã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fiabilidade, banda passante, atra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odelo do serviço de transporte da Internet 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rientado à conexão, confiável: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ão confiável, datagramas: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tocolos específico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gramação de soc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Resu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92C6-843C-4FF2-91BF-47A54DD31DC6}" type="slidenum">
              <a:t>106</a:t>
            </a:fld>
          </a:p>
        </p:txBody>
      </p:sp>
    </p:spTree>
  </p:cSld>
  <p:transition>
    <p:diamond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6104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Mais importante: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 características dos 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protoco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ípica troca de mensagens comando/respost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solicita informação ou serviç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responde com dados e código de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stat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ormatos das mensagen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beçalhos: campos que dão informações sobre os d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ados: informação sendo comuni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trole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. d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n-band, out-of-b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entralizado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. descentralizad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tateless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. statefu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ferência de mensagens confiável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v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. não confiáv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mplexidade na borda da rede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Resu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D58F-D41B-427C-A6BC-141E5A99779A}" type="slidenum">
              <a:t>107</a:t>
            </a:fld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66360" y="1981080"/>
            <a:ext cx="824868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rocess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rograma executando num hospedei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ntro do mesmo hospedeiro: dois processos se comunicam usando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municação interprocesso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(definido pelo O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cessos em diferentes hospedeiros se comunicam por meio de troca de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mensage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rocesso cliente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rocesso que inicia a comun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rocesso servidor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rocesso que espera para ser contat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Nota: aplicações com arquiteturas P2P possuem processos client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 processos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municação de proces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469B-07DB-4C19-8229-CDAAE7A4F9B6}" type="slidenum">
              <a:t>11</a:t>
            </a:fld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37623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594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processo envia/recebe mensagens para/de seu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59480" indent="-15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socket é análogo a um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r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5948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processo de envio empurr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mensagem para fora d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r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5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processo de envio confi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a infra-estrutura d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porte no outro lado d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rta que leva 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m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a o socket n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cesso d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cep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486400"/>
            <a:ext cx="8383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PI: (1) escolha do protocolo de transporte; (2) habilidade para fixar poucos parâmetros </a:t>
            </a:r>
            <a:r>
              <a:rPr b="0" lang="en-GB" sz="1900" spc="-1" strike="noStrike">
                <a:solidFill>
                  <a:srgbClr val="0198ff"/>
                </a:solidFill>
                <a:latin typeface="Trebuchet MS"/>
              </a:rPr>
              <a:t>(será explicado mais tard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Soc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19720" y="2124000"/>
            <a:ext cx="5340240" cy="23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1AE3-2257-4487-994E-3BEDCD6C58F4}" type="slidenum">
              <a:t>12</a:t>
            </a:fld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04720" y="1523880"/>
            <a:ext cx="89726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a um processo receber mensagens, ele deve ter um identifica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hospedeiro possui um único endereço IP de 32 b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.: O endereço IP do hospedeiro onde o processo está executando é suficiente para identificar o processo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.: Não, muitos processos podem estar em execução no mesmo hospedei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identificador inclui o endereço IP e o número da porta associada ao processo no hospedei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emplos de números de port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HTTP: 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de Correio: 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(mais detalhes serão mostrados mais tard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cessos de endereç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B1FD-2CF4-4204-A2EB-BE6D89DBEF25}" type="slidenum">
              <a:t>13</a:t>
            </a:fld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50520" y="1600200"/>
            <a:ext cx="87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ipo das mensagens trocadas, mensagens de requisição e respo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intaxe dos tipos de mensagem: os campos nas mensagens e como são deline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mântica dos campos, ou seja, significado da informação nos camp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gras para quando e como os processos enviam e respondem às mensage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tocolos de domínio públic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finidos nas RF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comendados para interoperabilida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.: HTTP, SM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tocolos proprietário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.: KaZa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7080" y="228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Kabel Bk BT"/>
              </a:rPr>
              <a:t>O protocolo da camada de aplicação defi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60AB-E7A0-49E4-850C-82BCE11D2132}" type="slidenum">
              <a:t>14</a:t>
            </a:fld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66360" y="1676520"/>
            <a:ext cx="86295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erda de d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lgumas aplicações (ex.: áudio) podem tolerar alguma per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utras aplicações (ex.: transferência de arquivos, telnet) exigem transferência de dados 100% confiáv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Tempor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lgumas aplicações (ex.: telefonia Internet, jogos interativos) exigem baixos atrasos para serem “efetivo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Banda passa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lgumas aplicações (ex.: multimídia) exigem uma banda mínima para serem “efetiva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utras aplicações (“aplicações elásticas”) melhoram quando a banda disponível aumen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0200" y="304920"/>
            <a:ext cx="975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Kabel Bk BT"/>
              </a:rPr>
              <a:t>De qual serviço de transporte uma aplicação necessit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9B54-DC63-40A9-857F-9CB5BD34E3AF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0600" y="1763640"/>
            <a:ext cx="2743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real-time áudio/ví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tored áudio/ví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jogos inte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e-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27240" y="1763640"/>
            <a:ext cx="157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em 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em 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ol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ol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ol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ol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em p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752480"/>
            <a:ext cx="223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áudio: 5 Kb-1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vídeo:10 Kb-5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igual à anteri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kb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32600" y="1744560"/>
            <a:ext cx="2644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Sensível ao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im, 100’s m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im,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im, 100’s m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286000"/>
            <a:ext cx="9372600" cy="1440"/>
          </a:xfrm>
          <a:prstGeom prst="line">
            <a:avLst/>
          </a:prstGeom>
          <a:ln w="25560">
            <a:solidFill>
              <a:srgbClr val="ff8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743200"/>
            <a:ext cx="9372600" cy="14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048120"/>
            <a:ext cx="9372600" cy="14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3324240"/>
            <a:ext cx="9372600" cy="14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933720"/>
            <a:ext cx="9372600" cy="180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248000"/>
            <a:ext cx="9372600" cy="180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572000"/>
            <a:ext cx="9372600" cy="14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257800"/>
            <a:ext cx="9372600" cy="14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Kabel Bk BT"/>
              </a:rPr>
              <a:t>Requisitos de transporte de aplicação comu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2CC9-B067-45B1-89E1-701C1E029A7C}" type="slidenum">
              <a:t>16</a:t>
            </a:fld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7320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Serviço TC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Orientado à conexã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conexão requerida entre processos cliente e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Transporte confiável</a:t>
            </a:r>
            <a:r>
              <a:rPr b="0" i="1" lang="en-GB" sz="1900" spc="-1" strike="noStrike">
                <a:solidFill>
                  <a:srgbClr val="00ae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tre os processos de envio e recep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Controle de flux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o transmissor não sobrecarrega o receptor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Controle de congestionament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rotege a rede do excesso de tráfeg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i="1" lang="en-GB" sz="1900" spc="-1" strike="noStrike">
                <a:solidFill>
                  <a:srgbClr val="618ffd"/>
                </a:solidFill>
                <a:latin typeface="Trebuchet MS"/>
              </a:rPr>
              <a:t>	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Não oferece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garantias de temporização e de banda mínim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Serviço UD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ferência de dados não confiável entre os processos transmissor e recept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ão oferece: estabelecimento de conexão, confiabilidade, controle de fluxo 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 congestionamento, garantia de temporização e de banda míni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0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.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or que ambos? Por que existe o UDP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Kabel Bk BT"/>
              </a:rPr>
              <a:t>Serviços dos protocolos de transporte da Inter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DAAD-48DA-4CEF-94A1-0C694B3F214E}" type="slidenum">
              <a:t>17</a:t>
            </a:fld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57480" y="1774800"/>
            <a:ext cx="3621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acesso de terminais rem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ransferência de arqu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treaming multimí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ervidor de arquivos rem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elefoni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05240" y="1459080"/>
            <a:ext cx="278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Protocolo de apl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smtp [RFC 82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http [RFC 206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RTP ou proprie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(ex.: RealNetwor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N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RTP ou proprie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(ex.: Vocalt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39160" y="1477800"/>
            <a:ext cx="2842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Protocol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CP ou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CP ou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tipicamente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274840"/>
            <a:ext cx="9220320" cy="11160"/>
          </a:xfrm>
          <a:prstGeom prst="line">
            <a:avLst/>
          </a:prstGeom>
          <a:ln w="25560">
            <a:solidFill>
              <a:srgbClr val="ff8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9193320" cy="14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038400"/>
            <a:ext cx="9220320" cy="180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333600"/>
            <a:ext cx="9220320" cy="180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7200" y="3655800"/>
            <a:ext cx="9220320" cy="140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257720"/>
            <a:ext cx="9172440" cy="144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4581360"/>
            <a:ext cx="9172440" cy="180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181480"/>
            <a:ext cx="9220320" cy="180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" y="228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Kabel Bk BT"/>
              </a:rPr>
              <a:t>Aplicação e protocolos de transporte da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B689-1672-4960-B522-C6D75365062D}" type="slidenum">
              <a:t>18</a:t>
            </a:fld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257E-16AB-4816-8B28-5FABDDB5DBE6}" type="slidenum">
              <a:t>19</a:t>
            </a:fld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136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74600"/>
            <a:ext cx="914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161E-0A98-45FA-9D10-0647481E94D9}" type="slidenum">
              <a:t>2</a:t>
            </a:fld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76440" y="1447920"/>
            <a:ext cx="77659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Primeiro alguns jarg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ágina Web</a:t>
            </a:r>
            <a:r>
              <a:rPr b="0" lang="en-GB" sz="1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siste de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obje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bjeto pode ser arquivo HTML, imagem JPEG, Java applet, arquivo de áudio,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página Web consiste de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arquivo-HTML bas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, que inclui vários objetos referenci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da objeto é endereçado por uma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UR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emplo de URL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98520" y="5008680"/>
            <a:ext cx="7404120" cy="1126080"/>
            <a:chOff x="1298520" y="5008680"/>
            <a:chExt cx="7404120" cy="1126080"/>
          </a:xfrm>
        </p:grpSpPr>
        <p:sp>
          <p:nvSpPr>
            <p:cNvPr id="165" name=""/>
            <p:cNvSpPr/>
            <p:nvPr/>
          </p:nvSpPr>
          <p:spPr>
            <a:xfrm>
              <a:off x="1298520" y="50086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3080520" y="3802320"/>
              <a:ext cx="90360" cy="358128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6866640" y="3796560"/>
              <a:ext cx="90720" cy="3581280"/>
            </a:xfrm>
            <a:custGeom>
              <a:avLst/>
              <a:gdLst>
                <a:gd name="textAreaLeft" fmla="*/ 57960 w 90720"/>
                <a:gd name="textAreaRight" fmla="*/ 91080 w 9072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45680" y="5751360"/>
              <a:ext cx="25765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Nome do hospedeir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1160" y="5672160"/>
              <a:ext cx="2274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Nome do caminh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Web e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481F-B1D0-42FC-96E0-0529BBCDA891}" type="slidenum">
              <a:t>20</a:t>
            </a:fld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426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HTTP: hypertext transfer protoco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tocolo da camada de aplicação da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odelo cliente/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liente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browser que solicita, recebe e apresenta objetos da Web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ervidor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envia objetos em resposta a ped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 1.0: RFC 194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 1.1: RFC 20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Visão geral do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18120" y="1987560"/>
            <a:ext cx="3354480" cy="288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C1BA-179D-4087-ADDC-7B39B4D7E1AC}" type="slidenum">
              <a:t>21</a:t>
            </a:fld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04120" y="3238560"/>
            <a:ext cx="8971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99172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Utiliza TC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inicia conexão TCP (cria socket) para o servidor na porta 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aceita uma conexão TCP d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ns HTTP (mensagens do protocolo de camada de aplicação) são trocadas entre o browser (cliente HTTP) e o servidor Web (servidor HTT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conexão TCP é fecha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HTTP é “stateles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servidor não mantém informação sobre os pedidos passados pelos clien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Protocolos que mantêm informações de “estado” são complexo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istórico do passado (estado) deve ser mant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 o servidor/cliente quebra, suas visões de “estado” podem ser inconsistentes, devendo ser reconciliad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Visão geral do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DF9A-0205-45ED-B776-B48DD5C92A2C}" type="slidenum">
              <a:t>22</a:t>
            </a:fld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86868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HTTP não persist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476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 máximo, um objeto é enviado sobre uma conexão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HTTP/1.0 utiliza HTTP não persist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HTTP persist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238"/>
              </a:spcAft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últiplos objetos podem ser enviados sobre uma conexã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238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CP entre o cliente e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HTTP/1.1 utiliza conexões persistentes em seu modo padrã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nexões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1367-C7B0-4C98-BD73-4A54810564FC}" type="slidenum">
              <a:t>23</a:t>
            </a:fld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15880" y="2095560"/>
            <a:ext cx="1800" cy="44956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040" y="6019920"/>
            <a:ext cx="7128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114200"/>
            <a:ext cx="9037800" cy="6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ário entra com a URL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38070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Frutiger 55"/>
              </a:rPr>
              <a:t>1a.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Cliente HTTP inicia conexão TCP ao servidor HTTP (processo) em  www.someSchool.edu. Porta 80 é a default para o servidor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560" y="3828960"/>
            <a:ext cx="4125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Frutiger 55"/>
              </a:rPr>
              <a:t>2.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Cliente HTTP envia HTTP </a:t>
            </a:r>
            <a:r>
              <a:rPr b="0" lang="en-GB" sz="1900" spc="-1" strike="noStrike">
                <a:solidFill>
                  <a:srgbClr val="618ffd"/>
                </a:solidFill>
                <a:latin typeface="Frutiger 55"/>
              </a:rPr>
              <a:t>request message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(contendo a URL) para o socket da conexão TC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78600" y="2523960"/>
            <a:ext cx="41256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Frutiger 55"/>
              </a:rPr>
              <a:t>1b</a:t>
            </a:r>
            <a:r>
              <a:rPr b="0" lang="en-GB" sz="1900" spc="-1" strike="noStrike">
                <a:solidFill>
                  <a:srgbClr val="ff0000"/>
                </a:solidFill>
                <a:latin typeface="Frutiger 55"/>
              </a:rPr>
              <a:t>.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Servidor HTTP no hospedeiro www.someSchool.edu esperando pela conexão TCP na porta 80. “Aceita” conexão, notificando 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6680" y="4381560"/>
            <a:ext cx="4125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Frutiger 55"/>
              </a:rPr>
              <a:t>3.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Servidor HTTP recebe mensagem de pedido, forma </a:t>
            </a:r>
            <a:r>
              <a:rPr b="0" lang="en-GB" sz="1900" spc="-1" strike="noStrike">
                <a:solidFill>
                  <a:srgbClr val="618ffd"/>
                </a:solidFill>
                <a:latin typeface="Frutiger 55"/>
              </a:rPr>
              <a:t>response message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contendo o objeto solicitado (someDepartment/home.index), envia mensagem para 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4800" y="2647800"/>
            <a:ext cx="1185840" cy="524160"/>
          </a:xfrm>
          <a:prstGeom prst="line">
            <a:avLst/>
          </a:prstGeom>
          <a:ln w="381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9560" y="4591080"/>
            <a:ext cx="1185840" cy="523800"/>
          </a:xfrm>
          <a:prstGeom prst="line">
            <a:avLst/>
          </a:prstGeom>
          <a:ln w="381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58800" y="5124600"/>
            <a:ext cx="1189080" cy="523800"/>
          </a:xfrm>
          <a:prstGeom prst="line">
            <a:avLst/>
          </a:prstGeom>
          <a:ln w="381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9040" y="5997600"/>
            <a:ext cx="970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Tem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350960" y="3162240"/>
            <a:ext cx="1189080" cy="523800"/>
          </a:xfrm>
          <a:prstGeom prst="line">
            <a:avLst/>
          </a:prstGeom>
          <a:ln w="381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39960" y="10573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"/>
              </a:rPr>
              <a:t>(contém texto, referências a 10 imagens jp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HTTP não persist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8694-3878-4FD5-B185-EE80C1C0E416}" type="slidenum">
              <a:t>24</a:t>
            </a:fld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95280" y="2057040"/>
            <a:ext cx="38052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Frutiger 55"/>
              </a:rPr>
              <a:t>5.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Cliente HTTP recebe mensagem de resposta contendo o arquivo html, apresenta o conteúdo html.  Analisando o arquivo html, encontra 10 objetos jpeg referenci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4343400"/>
            <a:ext cx="4125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Frutiger 55"/>
              </a:rPr>
              <a:t>6.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Passos 1-5 são repetidos para cada um dos 10 objetos jpe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50040" y="1492200"/>
            <a:ext cx="412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Frutiger 55"/>
              </a:rPr>
              <a:t>4.</a:t>
            </a:r>
            <a:r>
              <a:rPr b="0" lang="en-GB" sz="1900" spc="-1" strike="noStrike">
                <a:solidFill>
                  <a:srgbClr val="000000"/>
                </a:solidFill>
                <a:latin typeface="Frutiger 55"/>
              </a:rPr>
              <a:t> Servidor HTTP fecha conexão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7520" y="1519200"/>
            <a:ext cx="1440" cy="25718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0120" y="3519360"/>
            <a:ext cx="3715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0600" y="3438360"/>
            <a:ext cx="970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Tem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073040" y="1762200"/>
            <a:ext cx="1189080" cy="523800"/>
          </a:xfrm>
          <a:prstGeom prst="line">
            <a:avLst/>
          </a:prstGeom>
          <a:ln w="381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HTTP não persist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BC60-7798-41EB-9833-789679603544}" type="slidenum">
              <a:t>25</a:t>
            </a:fld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71040" y="1218960"/>
            <a:ext cx="3443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Definição de RTT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tempo para enviar um pequeno pacote que vai do cliente para o servidor e retorn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Tempo de respost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RTT para iniciar 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exã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RTT para requisiçã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 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imeiros bytes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a resposta HTTP par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tor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empo de transmissão d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rquiv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Modelagem do tempo de respo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987880"/>
            <a:ext cx="4876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Total = 2RTT+ tempo de transmiss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103640" y="1496880"/>
            <a:ext cx="5649840" cy="43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7A6E-69A5-4938-BF5F-416A9BF4463F}" type="slidenum">
              <a:t>26</a:t>
            </a:fld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534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aracterísticas do HTTP persistent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quer 2 RTTs por obje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S deve manipular e alocar recursos do hospedeiro para cada conexão TCP. Mas os browsers freqüentemente abrem conexões TCP paralelas para buscar objetos referenci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HTTP persist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deixa a conexão aberta após enviar uma respo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ns HTTP subseqüentes entre o mesmo cliente/servidor são enviadas pela conex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ersistente sem 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pipelining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cliente emite novas requisições apenas quando a resposta anterior for receb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RTT para cada objeto referenci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ersistente com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pipelining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drão no HTTP/1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cliente envia requisições assim que encontra um objeto referenci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ão pequeno como um RTT para todos os objetos referenci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HTTP persist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3989-B75D-4307-9DAD-45765ABC83A2}" type="slidenum">
              <a:t>27</a:t>
            </a:fld>
          </a:p>
        </p:txBody>
      </p:sp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91040" y="5199120"/>
            <a:ext cx="312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indica fim da 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66720" y="1295280"/>
            <a:ext cx="77659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ois tipos de mensagens HTTP: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request, respon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HTTP request messag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SCII (formato legível para humano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51400" y="3444840"/>
            <a:ext cx="62766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/somedir/page.html HTTP/1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ser-agent: Mozilla/4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ccept: text/html, image/gif,image/jpe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(extra carriage return, line feed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3840" y="3191040"/>
            <a:ext cx="294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Linha de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(comandos GET, PO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HEA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70120" y="3767040"/>
            <a:ext cx="317520" cy="914400"/>
          </a:xfrm>
          <a:custGeom>
            <a:avLst/>
            <a:gdLst/>
            <a:ahLst/>
            <a:rect l="l" t="t" r="r" b="b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12200" y="424656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Linh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18ffd"/>
                </a:solidFill>
                <a:latin typeface="Frutiger 45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73240" y="5408640"/>
            <a:ext cx="695520" cy="7920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3240" y="3505320"/>
            <a:ext cx="533520" cy="152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Mensagem HTTP requ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233C-BB0D-4367-884F-BFF80A009D91}" type="slidenum">
              <a:t>28</a:t>
            </a:fld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Mensagem HTTP request: formato g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74880" y="1947960"/>
            <a:ext cx="615456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D2D9-F11E-4B3F-97E0-4DBD8B397815}" type="slidenum">
              <a:t>29</a:t>
            </a:fld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58440" y="1471680"/>
            <a:ext cx="917244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Nossos objetivo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ceitual, aspectos de implementação de protocolos de aplicação de re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odelos de serviço da camada de transpor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adigma cliente-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adigma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peer-to-pe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prender sobre protocolos examinando protocolos da camada de aplicaçã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pulare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/POP3/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gramação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ocket AP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arte 2: 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917C-49B8-4242-861C-54B17941679E}" type="slidenum">
              <a:t>3</a:t>
            </a:fld>
          </a:p>
        </p:txBody>
      </p:sp>
    </p:spTree>
  </p:cSld>
  <p:transition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37252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Método Post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ágina Web freqüentemente inclui entrada de formulá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entrada é enviada para o servidor no corpo da entida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Método URL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tiliza o método G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entrada é enviada no campo de URL da linha de requisiçã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67840" y="5386320"/>
            <a:ext cx="69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"/>
              </a:rPr>
              <a:t>www.somesite.com/animalsearch?monkeys&amp;ban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ntrada de formul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6B85-5F90-4AC1-ACDD-55B42BCAF593}" type="slidenum">
              <a:t>30</a:t>
            </a:fld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57000" y="167652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HTTP/1.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9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G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9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E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ede para o servidor deixar o objeto requisitado fora d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spo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HTTP/1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9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GET, POST, HE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via o arquivo no corpo da entidade para o caminho especificad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 campo de UR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LE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9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paga o arquivo especificado no campo de UR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Tipos de mét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C4FD-C0CB-4E0C-B891-E9F08C6F14F9}" type="slidenum">
              <a:t>31</a:t>
            </a:fld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46640" y="1987560"/>
            <a:ext cx="5819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TTP/1.0 200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9720" y="1411200"/>
            <a:ext cx="2059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Linha de </a:t>
            </a:r>
            <a:r>
              <a:rPr b="0" i="1" lang="en-GB" sz="1900" spc="-1" strike="noStrike">
                <a:solidFill>
                  <a:srgbClr val="618ffd"/>
                </a:solidFill>
                <a:latin typeface="Frutiger 45"/>
              </a:rPr>
              <a:t>stat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(protoco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código de </a:t>
            </a:r>
            <a:r>
              <a:rPr b="0" i="1" lang="en-GB" sz="1900" spc="-1" strike="noStrike">
                <a:solidFill>
                  <a:srgbClr val="618ffd"/>
                </a:solidFill>
                <a:latin typeface="Frutiger 45"/>
              </a:rPr>
              <a:t>status</a:t>
            </a: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frase de </a:t>
            </a:r>
            <a:r>
              <a:rPr b="0" i="1" lang="en-GB" sz="1900" spc="-1" strike="noStrike">
                <a:solidFill>
                  <a:srgbClr val="618ffd"/>
                </a:solidFill>
                <a:latin typeface="Frutiger 45"/>
              </a:rPr>
              <a:t>status</a:t>
            </a: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86160" y="1914480"/>
            <a:ext cx="1000080" cy="25740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2276640"/>
            <a:ext cx="277920" cy="163800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0200" y="3021120"/>
            <a:ext cx="132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Linha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cabeçalh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373480" y="4379760"/>
            <a:ext cx="1000080" cy="260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3560" y="4363920"/>
            <a:ext cx="1630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Dados, ex.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Frutiger 45"/>
              </a:rPr>
              <a:t>arquivo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Mensagem HTTP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92B8-750D-4AC6-AB61-2C58B19D713C}" type="slidenum">
              <a:t>32</a:t>
            </a:fld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71400" y="1542960"/>
            <a:ext cx="8993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a primeira linha da mensagem de resposta servidor </a:t>
            </a:r>
            <a:r>
              <a:rPr b="0" lang="en-GB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cl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lguns exemplos de código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00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quisição bem-sucedida, objeto requisitado a seguir nesta mensag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301 Moved permanent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bjeto requisitado foi movido, nova localização especificada a seguir nesta mensagem (Location: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400 Bad reque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m de requisição não compreendida pel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404 Not Fou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ocumento requisitado não encontrado neste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505 HTTP version not support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ódigos de</a:t>
            </a:r>
            <a:r>
              <a:rPr b="1" lang="en-GB" sz="3600" spc="-1" strike="noStrike">
                <a:solidFill>
                  <a:srgbClr val="ffffff"/>
                </a:solidFill>
                <a:latin typeface="Kabel Bk BT"/>
              </a:rPr>
              <a:t> </a:t>
            </a:r>
            <a:r>
              <a:rPr b="0" i="1" lang="en-GB" sz="3600" spc="-1" strike="noStrike">
                <a:solidFill>
                  <a:srgbClr val="ffffff"/>
                </a:solidFill>
                <a:latin typeface="Kabel Bk BT"/>
              </a:rPr>
              <a:t>status</a:t>
            </a: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 das respo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A309-EAB7-4E0D-A888-426CBA37B9FB}" type="slidenum">
              <a:t>33</a:t>
            </a:fld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79320" y="1590480"/>
            <a:ext cx="876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1.Telnet para um servidor Web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73400" y="2139840"/>
            <a:ext cx="5690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bre conexão TCP para a porta 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(porta default do servidor HTTP) em cis.poly.edu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alquer coisa digitada é envia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a a porta 80 em cis.poly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1120" y="3600360"/>
            <a:ext cx="8767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Digite um pedido GET HTT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49880" y="4040280"/>
            <a:ext cx="4653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igitando isso (tecle carri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turn duas vezes), você envia es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edido HTTP GET mínimo (mas completo) ao servidor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2162160"/>
            <a:ext cx="268200" cy="118116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29360" y="4067280"/>
            <a:ext cx="279360" cy="119052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1120" y="5553000"/>
            <a:ext cx="8767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3.Examine a mensagem de resposta enviada pelo servidor HTTP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54360" y="4260960"/>
            <a:ext cx="3076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Courier New"/>
              </a:rPr>
              <a:t>GET /~ross/ HTTP/1.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Courier New"/>
              </a:rPr>
              <a:t>host: cis.poly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7080" y="2546280"/>
            <a:ext cx="336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Courier New"/>
              </a:rPr>
              <a:t>telnet cis.poly.edu 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HTTP cliente: faça você mesm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3042-4050-4C51-8A1E-044BDE37A3A8}" type="slidenum">
              <a:t>34</a:t>
            </a:fld>
          </a:p>
        </p:txBody>
      </p:sp>
    </p:spTree>
  </p:cSld>
  <p:transition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maioria dos grandes sites Web utiliza cook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Quatro component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1) Linha de cabeçalho do cookie na mensagem HTTP respon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) Linha de cabeçalho de cookie na mensagem HTTP reque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3) Arquivo de cookie mantido no hospedeiro do usuário e manipulado pel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browser do usuário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4) Banco de dados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backend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no site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xempl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usan acessa a Internet sempre do mesmo P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la visita um site específico de e-commerce pela primeira ve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ando a requisição HTTP inicial chega ao site, este cria um ID único 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a entrada no banco de dados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backend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ara este 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000"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stado usuário-servidor: cook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EE7E-06B8-4DF2-BCC6-1EB707633652}" type="slidenum">
              <a:t>35</a:t>
            </a:fld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6760" y="1981080"/>
            <a:ext cx="2362320" cy="1019160"/>
          </a:xfrm>
          <a:prstGeom prst="parallelogram">
            <a:avLst>
              <a:gd name="adj" fmla="val 57948"/>
            </a:avLst>
          </a:prstGeom>
          <a:solidFill>
            <a:srgbClr val="ff8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276720"/>
            <a:ext cx="2362320" cy="1019160"/>
          </a:xfrm>
          <a:prstGeom prst="parallelogram">
            <a:avLst>
              <a:gd name="adj" fmla="val 57948"/>
            </a:avLst>
          </a:prstGeom>
          <a:solidFill>
            <a:srgbClr val="ff8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65160" y="4084560"/>
            <a:ext cx="35845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66960" y="2008080"/>
            <a:ext cx="35812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4880" y="1523880"/>
            <a:ext cx="965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68160" y="1500120"/>
            <a:ext cx="112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71880" y="2023920"/>
            <a:ext cx="2871720" cy="3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1976400"/>
            <a:ext cx="2813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al HTTP request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796840" y="2455920"/>
            <a:ext cx="35830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59000" y="2428920"/>
            <a:ext cx="2714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73320" y="2392200"/>
            <a:ext cx="2863800" cy="68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al HTTP response +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Set-cookie: 1678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78120" y="3598920"/>
            <a:ext cx="35798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54320" y="3475080"/>
            <a:ext cx="2714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9720" y="3429000"/>
            <a:ext cx="3024360" cy="67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al HTTP request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cookie: 167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25800" y="4181400"/>
            <a:ext cx="2909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02040" y="4116240"/>
            <a:ext cx="2997000" cy="67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al HTTP response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6440" y="5084640"/>
            <a:ext cx="35812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49640" y="4952880"/>
            <a:ext cx="2714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19320" y="4906800"/>
            <a:ext cx="2976840" cy="67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al HTTP request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cookie: 167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776680" y="5580000"/>
            <a:ext cx="3582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35160" y="5627520"/>
            <a:ext cx="2911680" cy="314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11400" y="5611680"/>
            <a:ext cx="2998800" cy="67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al HTTP response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65720" y="3567240"/>
            <a:ext cx="1688040" cy="67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specif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o cook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21160" y="5043600"/>
            <a:ext cx="1688040" cy="67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specif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o cook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47360" y="2071800"/>
            <a:ext cx="1828080" cy="96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 o ID 167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para o usuá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083520" y="3319560"/>
            <a:ext cx="320760" cy="395280"/>
            <a:chOff x="9083520" y="3319560"/>
            <a:chExt cx="320760" cy="395280"/>
          </a:xfrm>
        </p:grpSpPr>
        <p:sp>
          <p:nvSpPr>
            <p:cNvPr id="271" name=""/>
            <p:cNvSpPr/>
            <p:nvPr/>
          </p:nvSpPr>
          <p:spPr>
            <a:xfrm>
              <a:off x="9083520" y="3319560"/>
              <a:ext cx="304920" cy="10944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0" y="3605040"/>
              <a:ext cx="306360" cy="10980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402840" y="3355920"/>
              <a:ext cx="144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83520" y="3381480"/>
              <a:ext cx="1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8105760" y="2685960"/>
            <a:ext cx="939960" cy="5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2220000">
            <a:off x="7719120" y="2284560"/>
            <a:ext cx="2242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trada no ban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 dados backe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697880" y="3612960"/>
            <a:ext cx="1189080" cy="430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20460000">
            <a:off x="7983360" y="3718080"/>
            <a:ext cx="94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ces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829640" y="3868560"/>
            <a:ext cx="1293840" cy="1285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840000">
            <a:off x="8329320" y="4368960"/>
            <a:ext cx="94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ces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9320" y="3268800"/>
            <a:ext cx="1814040" cy="1029960"/>
            <a:chOff x="409320" y="3268800"/>
            <a:chExt cx="1814040" cy="1029960"/>
          </a:xfrm>
        </p:grpSpPr>
        <p:sp>
          <p:nvSpPr>
            <p:cNvPr id="282" name=""/>
            <p:cNvSpPr/>
            <p:nvPr/>
          </p:nvSpPr>
          <p:spPr>
            <a:xfrm>
              <a:off x="782280" y="3268800"/>
              <a:ext cx="144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Frutiger 45"/>
                </a:rPr>
                <a:t>Cookie fi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9320" y="3625920"/>
              <a:ext cx="17611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Frutiger 45"/>
                </a:rPr>
                <a:t>amazon: 167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Frutiger 45"/>
                </a:rPr>
                <a:t>ebay: 873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93200" y="1996920"/>
            <a:ext cx="1801440" cy="735840"/>
            <a:chOff x="493200" y="1996920"/>
            <a:chExt cx="1801440" cy="735840"/>
          </a:xfrm>
        </p:grpSpPr>
        <p:sp>
          <p:nvSpPr>
            <p:cNvPr id="285" name=""/>
            <p:cNvSpPr/>
            <p:nvPr/>
          </p:nvSpPr>
          <p:spPr>
            <a:xfrm>
              <a:off x="853560" y="1996920"/>
              <a:ext cx="144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Frutiger 45"/>
                </a:rPr>
                <a:t>Cookie fi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3200" y="2349360"/>
              <a:ext cx="1398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Frutiger 45"/>
                </a:rPr>
                <a:t>ebay: 873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81080" y="5000760"/>
            <a:ext cx="2361960" cy="1019160"/>
          </a:xfrm>
          <a:prstGeom prst="parallelogram">
            <a:avLst>
              <a:gd name="adj" fmla="val 57939"/>
            </a:avLst>
          </a:prstGeom>
          <a:solidFill>
            <a:srgbClr val="ff8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3960" y="4948200"/>
            <a:ext cx="1813680" cy="1025280"/>
            <a:chOff x="453960" y="4948200"/>
            <a:chExt cx="1813680" cy="1025280"/>
          </a:xfrm>
        </p:grpSpPr>
        <p:sp>
          <p:nvSpPr>
            <p:cNvPr id="289" name=""/>
            <p:cNvSpPr/>
            <p:nvPr/>
          </p:nvSpPr>
          <p:spPr>
            <a:xfrm>
              <a:off x="826560" y="4948200"/>
              <a:ext cx="144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Frutiger 45"/>
                </a:rPr>
                <a:t>Cookie fi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3960" y="5300640"/>
              <a:ext cx="17611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Frutiger 45"/>
                </a:rPr>
                <a:t>amazon: 167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Frutiger 45"/>
                </a:rPr>
                <a:t>ebay: 873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45080" y="4468680"/>
            <a:ext cx="255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a semana depoi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okies: mantendo “estad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817F-F50A-45CC-9B15-DBAED4800D3B}" type="slidenum">
              <a:t>36</a:t>
            </a:fld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440" y="1477440"/>
            <a:ext cx="8642520" cy="46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O que os cookies podem traze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utor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rtões de comp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comendaç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stado de sessão do usuário (Web e-mai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ASI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okies e privacidad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okies permitem que sites saibam muito sobre você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Você pode fornecer nome e e-mail para os si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canismos de busca usam redirecionamento e cookies para saberem mais sobre você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mpanhias de propaganda obtêm informações por meio dos si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ok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FA99-807C-48C6-8E44-B1486B3680C1}" type="slidenum">
              <a:t>37</a:t>
            </a:fld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66360" y="2209320"/>
            <a:ext cx="3846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uário configura o browser: acesso Web é feito por meio de um prox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envia todos os pedidos HTTP para o Web 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 o objeto existe no Web cache: Web cache retorna o obje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u o Web cache solicit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bjeto do servidor original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 então envia o objeto a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29528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3000" indent="-11430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120140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Objetiv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atender o cliente sem envolver o servidor Web originador da informação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Web caches (proxy serv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697360" y="2590920"/>
            <a:ext cx="3675240" cy="264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FE5E-17F3-4048-AA6F-EEA6309B874C}" type="slidenum">
              <a:t>38</a:t>
            </a:fld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73200" y="167652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cache atua tanto no servidor como n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ipicamente, o cache é instalado pelo ISP (universidade, empresa, ISP residencia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or que Web caching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duz o tempo de resposta para a requisição d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duz o tráfego num enlace de acesso de uma institui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densidade de caches na Internet habilita os “fracos” provedores de conteúdo a efetivamente entregarem o conteúdo (mas fazendo P2P file sharing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Mais sobre Web ca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224C-8235-4437-BEE5-345E9C075349}" type="slidenum">
              <a:t>39</a:t>
            </a:fld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172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-ma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m instantâ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Login remo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2P file sha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Jogos de rede multiusuá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treaming stored videocli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elefonia via Interne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Videoconferência em tempo re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mputação paralela mass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Algumas aplicações de r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1175-51B9-4EA6-A786-0A211037EF6A}" type="slidenum">
              <a:t>4</a:t>
            </a:fld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4510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180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uponh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amanho médio objeto = 100.000 b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axa média de requisições dos browsers da instituição para os servidores de origem = 15/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traso do roteador institucional para ir a qualquer servidor de origem e retornar ao roteador = 2 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nseqüência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tilização da LAN = 15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tilização do link de acesso = 100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traso total = atraso da Internet + atraso de acesso + atraso da LAN = 2 segundos + minutos + milissegun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 de ca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29280" y="1389240"/>
            <a:ext cx="3343320" cy="46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08AD-49E8-477A-9F37-51BBBAD225A3}" type="slidenum">
              <a:t>40</a:t>
            </a:fld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63480" y="1379520"/>
            <a:ext cx="4060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olução poss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umentar a largura de banda do enlace de acesso, como, 10 Mb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nseqüênc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tilização da LAN = 15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tilização do enlace de acesso = 15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traso total = atraso da Internet + atraso de acesso + atraso da LAN = 2 segundos + msegs + mse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reqüentemente é um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upgrad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ca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 de ca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619600" y="1227240"/>
            <a:ext cx="3753000" cy="47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C2F1-1C0B-4AB5-85CE-3BF982D0FFF8}" type="slidenum">
              <a:t>41</a:t>
            </a:fld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 de ca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60240" y="1523880"/>
            <a:ext cx="486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Instalação do 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uponha que a taxa de acertos seja .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nseqüê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40% das requisições serão satisfeitas quase que imediatam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60% das requisições serão satisfeitas pelo servidor de orig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tilização do enlace de acesso reduzida para 60%, resultando em atrasos insignificantes (como 10 mseg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édia de atraso total = atraso da Internet + atraso de acesso + atraso da LAN = .6*(2.01) segundos + milissegundos &lt; 1,4 segun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619600" y="1227240"/>
            <a:ext cx="3753000" cy="47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23EB-DDC6-4169-B5A5-BCE5AC4D04D8}" type="slidenum">
              <a:t>42</a:t>
            </a:fld>
          </a:p>
        </p:txBody>
      </p:sp>
    </p:spTree>
  </p:cSld>
  <p:transition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350532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Razã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não enviar objeto se a versão que o cliente já possui está atualiza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: especifica data da versão armazenada no pedido HT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If-modified-since: &lt;dat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: resposta não contém objeto se a cópia é atualizada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HTTP/1.0 304 Not Modifi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2480" y="2114640"/>
            <a:ext cx="357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46560" y="1492200"/>
            <a:ext cx="965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63560" y="1463760"/>
            <a:ext cx="112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64040" y="1998720"/>
            <a:ext cx="2903760" cy="96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 request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If-modified-since: &lt;dat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646520" y="3105000"/>
            <a:ext cx="3586320" cy="32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943520" y="3098880"/>
            <a:ext cx="2862360" cy="962280"/>
            <a:chOff x="4943520" y="3098880"/>
            <a:chExt cx="2862360" cy="962280"/>
          </a:xfrm>
        </p:grpSpPr>
        <p:sp>
          <p:nvSpPr>
            <p:cNvPr id="317" name=""/>
            <p:cNvSpPr/>
            <p:nvPr/>
          </p:nvSpPr>
          <p:spPr>
            <a:xfrm>
              <a:off x="5049720" y="3154320"/>
              <a:ext cx="2713320" cy="73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43520" y="3098880"/>
              <a:ext cx="2862360" cy="962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rebuchet MS"/>
                </a:rPr>
                <a:t>HTTP respons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rebuchet MS"/>
                </a:rPr>
                <a:t>HTTP/1.0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rebuchet MS"/>
                </a:rPr>
                <a:t>304 Not Modifi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8150040" y="2368440"/>
            <a:ext cx="1453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Objet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n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modific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4172040"/>
            <a:ext cx="4228920" cy="1440"/>
          </a:xfrm>
          <a:prstGeom prst="line">
            <a:avLst/>
          </a:prstGeom>
          <a:ln w="25560">
            <a:solidFill>
              <a:srgbClr val="618ff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03760" y="4467240"/>
            <a:ext cx="35798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8720" y="4351320"/>
            <a:ext cx="2903760" cy="96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 request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If-modified-since: &lt;dat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722480" y="5457960"/>
            <a:ext cx="35830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89600" y="5402160"/>
            <a:ext cx="2862000" cy="96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 respon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HTTP/1.1 200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&lt;data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3120" y="4816440"/>
            <a:ext cx="145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Objet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modific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GET con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8976-712B-457C-A508-97DDDA58AF9A}" type="slidenum">
              <a:t>43</a:t>
            </a:fld>
          </a:p>
        </p:txBody>
      </p:sp>
    </p:spTree>
  </p:cSld>
  <p:transition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82400" y="1600200"/>
            <a:ext cx="866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60C6-BF90-4AD8-9BDF-63CC2D3E8C07}" type="slidenum">
              <a:t>44</a:t>
            </a:fld>
          </a:p>
        </p:txBody>
      </p:sp>
    </p:spTree>
  </p:cSld>
  <p:transition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6840" y="4266720"/>
            <a:ext cx="92170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ferência de arquivos de e para o computador remo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odelo cliente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Cliente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lado que inicia a transferência (seja de ou para o lado remot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Servidor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hospedeiro remo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TP: RFC 95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TP servidor: porta 2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Kabel Bk BT"/>
              </a:rPr>
              <a:t>FTP: o protocolo de transferência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874880" y="1600200"/>
            <a:ext cx="6154560" cy="23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E5EE-6D49-425F-AD21-7DC5744F1AA0}" type="slidenum">
              <a:t>45</a:t>
            </a:fld>
          </a:p>
        </p:txBody>
      </p:sp>
    </p:spTree>
  </p:cSld>
  <p:transition>
    <p:diamond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926136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FTP contata o servidor FTP na porta 21 especificando o TCP como protocolo de transpor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obtém autorização pela conexão de contro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procura o diretório remoto enviando comandos pela conexão de contro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ando o servidor recebe um comando para uma transferência de arquivo, ele abre uma conexão de dados TCP para 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pós a transferência de um arquivo, o servidor fecha a conex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abre uma segunda conexão de dados TCP para transferir outro arquiv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exão de controle: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“fora da banda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FTP mantém “estado”: diretório atual, autenticação anteri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7080" y="228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Kabel Bk BT"/>
              </a:rPr>
              <a:t>FTP: controle separado, conexões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351240" y="4965840"/>
            <a:ext cx="3203640" cy="105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9B76-F3B2-4E1D-87E3-33AE4C91BBBC}" type="slidenum">
              <a:t>46</a:t>
            </a:fld>
          </a:p>
        </p:txBody>
      </p:sp>
    </p:spTree>
  </p:cSld>
  <p:transition>
    <p:diamond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62040" y="1371600"/>
            <a:ext cx="87631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xemplos de comando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vie um texto ASCII sobre canal de contro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USER </a:t>
            </a:r>
            <a:r>
              <a:rPr b="1" i="1" lang="en-GB" sz="1900" spc="-1" strike="noStrike">
                <a:solidFill>
                  <a:srgbClr val="000000"/>
                </a:solidFill>
                <a:latin typeface="Trebuchet MS"/>
              </a:rPr>
              <a:t>user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PASS </a:t>
            </a:r>
            <a:r>
              <a:rPr b="1" i="1" lang="en-GB" sz="1900" spc="-1" strike="noStrike">
                <a:solidFill>
                  <a:srgbClr val="000000"/>
                </a:solidFill>
                <a:latin typeface="Trebuchet MS"/>
              </a:rPr>
              <a:t>passwor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LIST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retorna listagem do arquivo no diretório atu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RETR filenam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recupera (obtém) o arquiv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STOR filenam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armazena o arquivo no hospedeiro remo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xemplos de códigos de retor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ódigo de status e frase (como no HTT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331 Username OK, password requir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125 data connection already open; transfer star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425 Can’t open data conn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452 Error writing fi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FTP comandos, respo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FB72-ED53-4519-8728-CF478F07AC79}" type="slidenum">
              <a:t>47</a:t>
            </a:fld>
          </a:p>
        </p:txBody>
      </p:sp>
    </p:spTree>
  </p:cSld>
  <p:transition>
    <p:diamond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81388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C06B-25B9-4E81-B3C0-5D2C69C7FFE1}" type="slidenum">
              <a:t>48</a:t>
            </a:fld>
          </a:p>
        </p:txBody>
      </p:sp>
    </p:spTree>
  </p:cSld>
  <p:transition>
    <p:diamond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68160" y="160020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Três componentes principais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gentes de usuári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es de corre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imple mail transfer protocol: SM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Agente de usuá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leitor de correio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mposição, edição, leitura de mensagens de corre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.: Eudora, Outlook, elm, Netscape Messe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ns de entrada e de saída são armazenadas n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rreio eletrô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283360" y="1487520"/>
            <a:ext cx="4470120" cy="40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78C3-FAF4-40AB-9D2D-C28473FA2718}" type="slidenum">
              <a:t>49</a:t>
            </a:fld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76440" y="1590480"/>
            <a:ext cx="450504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screver programas 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ecutem sobre diferentes sistemas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inais 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 comuniquem através de uma re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.: Web – software de servidor Web se comunicando com software do brows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Nenhum software é escrito para dispositivos no núcleo da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ispositivos do núcleo da rede nã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balham na camada de apl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sta estrutura permite um rápid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senvolvimento de apl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riando uma nova aplicação de r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52880" y="1103400"/>
            <a:ext cx="484344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D4E4-2BB6-47D7-8501-03DC82557311}" type="slidenum">
              <a:t>5</a:t>
            </a:fld>
          </a:p>
        </p:txBody>
      </p:sp>
    </p:spTree>
  </p:cSld>
  <p:transition>
    <p:diamond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393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Servidores de correio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aixa postal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contém mensagens que chegaram (ainda não lidas) para o usuá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Fila de mensagen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contém as mensagens de correio a serem enviad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rotocolo SMTP</a:t>
            </a:r>
            <a:r>
              <a:rPr b="0" lang="en-GB" sz="1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ermite aos servidores de correio trocarem mensagens entre s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: servidor de correi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e env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”: servidor d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rreio que receb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rreio eletrônico: servidores de corre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283360" y="1487520"/>
            <a:ext cx="4470120" cy="40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D56F-CCBC-4951-9022-BCB6BA699C08}" type="slidenum">
              <a:t>50</a:t>
            </a:fld>
          </a:p>
        </p:txBody>
      </p:sp>
    </p:spTree>
  </p:cSld>
  <p:transition>
    <p:diamond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rreio eletrônico: SMTP [RFC 821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0820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sa TCP para transferência confiável de mensagens de correio do cliente ao servidor, porta 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ferência direta: servidor que envia para o servidor que receb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ês fases de transferê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andshaking (apresentaçã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ferência de mensage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ech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nteração comando/respo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omandos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texto ASCI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Resposta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código de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statu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e fra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ns devem ser formatadas em código ASCII de 7 b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070A-769B-4E5D-A348-1A37884D93EF}" type="slidenum">
              <a:t>51</a:t>
            </a:fld>
          </a:p>
        </p:txBody>
      </p:sp>
    </p:spTree>
  </p:cSld>
  <p:transition>
    <p:diamond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880" y="1160640"/>
            <a:ext cx="960912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1) Alice usa o agente de usuário (UA) para compor a mensagem e “para” bob@someschool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) O agente de usuário dela envia a mensagem para o seu servidor de correio; a mensagem é colocada na fila de mensage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3) O lado cliente do SMTP abre uma conexão TCP com o servidor de correio do Bob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4) O cliente SMTP envia a mensagem de Alice pela conexão TCP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5) O servidor de correio de Bob coloca a mensagem na caixa de correio de Bob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6) Bob invoca seu agente de usuário para ler a mensagem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Kabel Bk BT"/>
              </a:rPr>
              <a:t>Cenário: Alice envia mensagem para Bo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1000" y="4168800"/>
            <a:ext cx="6862680" cy="207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6DB8-810F-4F65-988C-C2055B7FC0BA}" type="slidenum">
              <a:t>52</a:t>
            </a:fld>
          </a:p>
        </p:txBody>
      </p:sp>
    </p:spTree>
  </p:cSld>
  <p:transition>
    <p:diamond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4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 de interação SM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E8E7-C27C-4BC8-AF1C-73C03505F3DF}" type="slidenum">
              <a:t>53</a:t>
            </a:fld>
          </a:p>
        </p:txBody>
      </p:sp>
    </p:spTree>
  </p:cSld>
  <p:transition>
    <p:diamond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7765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lnet nome do servidor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Veja resposta 220 d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vie comandos HELO, MAIL FROM, RCPT TO, DATA, QUI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seqüência acima permite enviar um comando sem usar o agente de usuário do remet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Tente o SMTP você me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026D-511A-44CD-BFED-50097D0CA162}" type="slidenum">
              <a:t>54</a:t>
            </a:fld>
          </a:p>
        </p:txBody>
      </p:sp>
    </p:spTree>
  </p:cSld>
  <p:transition>
    <p:diamond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SMTP: palavras fi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 usa conexões persisten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 exige que as mensagens (cabeçalho e corpo) estejam em ASCII de 7 b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SMTP usa CRLF.CRLF para indicar o final da mensag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mparação com HTT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: pul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-mail: pus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mbos usam comandos e respostas em ASCII, interação comando/resposta e códigos de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statu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: cada objeto encapsulado na sua própria mensagem de respo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: múltiplos objetos são enviados numa mensagem multipar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B2D8-9CF2-4846-A468-929B7F363ED8}" type="slidenum">
              <a:t>55</a:t>
            </a:fld>
          </a:p>
        </p:txBody>
      </p:sp>
    </p:spTree>
  </p:cSld>
  <p:transition>
    <p:diamond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: protocolo para trocar mensagens de e-mai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FC 822: padrão para mensagens do tipo text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linhas de cabeçalho, ex.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rebuchet MS"/>
              <a:buChar char="–"/>
              <a:tabLst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rebuchet MS"/>
              <a:buChar char="–"/>
              <a:tabLst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rom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rebuchet MS"/>
              <a:buChar char="–"/>
              <a:tabLst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ubject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diferente </a:t>
            </a:r>
            <a:r>
              <a:rPr b="0" i="1" lang="en-GB" sz="1900" spc="-1" strike="noStrike">
                <a:solidFill>
                  <a:srgbClr val="000000"/>
                </a:solidFill>
                <a:latin typeface="Trebuchet MS"/>
              </a:rPr>
              <a:t>dos comandos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r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rebuchet MS"/>
              <a:buChar char="–"/>
              <a:tabLst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“mensagem”, ASCII somente com caracte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91000" y="1892160"/>
            <a:ext cx="3067200" cy="432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1000" y="2705040"/>
            <a:ext cx="3067200" cy="173988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72120" y="1778040"/>
            <a:ext cx="35067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656160" y="2157120"/>
            <a:ext cx="1680840" cy="11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259080" y="3325680"/>
            <a:ext cx="2063880" cy="1882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11480" y="2112840"/>
            <a:ext cx="14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n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m br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7851240" y="2552760"/>
            <a:ext cx="104940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Formato da mensagem de corre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AB15-7A41-4407-BB68-1F4257710ADD}" type="slidenum">
              <a:t>56</a:t>
            </a:fld>
          </a:p>
        </p:txBody>
      </p:sp>
    </p:spTree>
  </p:cSld>
  <p:transition>
    <p:diamond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76440" y="1447560"/>
            <a:ext cx="7935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IME: multimedia mail extension, RFC 2045, 205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Linhas adicionais no cabeçalho declaram o tipo de conteúdo MIM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270320" y="2851200"/>
            <a:ext cx="5419800" cy="3111480"/>
            <a:chOff x="4270320" y="2851200"/>
            <a:chExt cx="5419800" cy="3111480"/>
          </a:xfrm>
        </p:grpSpPr>
        <p:sp>
          <p:nvSpPr>
            <p:cNvPr id="367" name=""/>
            <p:cNvSpPr/>
            <p:nvPr/>
          </p:nvSpPr>
          <p:spPr>
            <a:xfrm>
              <a:off x="4297320" y="2851200"/>
              <a:ext cx="5392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From: alice@crepes.f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To: bob@hamburger.ed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ubject: Picture of yummy crep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IME-Version: 1.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ontent-Transfer-Encoding: base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ontent-Type: image/jpe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ase64 encoded data 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....................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......base64 encoded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70320" y="2851200"/>
              <a:ext cx="5130720" cy="2927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13480" y="4356000"/>
            <a:ext cx="303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ados multimíd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ipo, subtipo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claração de parâmet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3320" y="3568680"/>
            <a:ext cx="248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étodo us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a codificar d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46880" y="3009960"/>
            <a:ext cx="2018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Versão da MI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32120" y="5537160"/>
            <a:ext cx="2242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ados codific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94200" y="3276720"/>
            <a:ext cx="1252440" cy="546120"/>
          </a:xfrm>
          <a:prstGeom prst="line">
            <a:avLst/>
          </a:prstGeom>
          <a:ln w="255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67200" y="3911760"/>
            <a:ext cx="1279440" cy="190440"/>
          </a:xfrm>
          <a:prstGeom prst="line">
            <a:avLst/>
          </a:prstGeom>
          <a:ln w="255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040200" y="4417560"/>
            <a:ext cx="1347480" cy="358920"/>
          </a:xfrm>
          <a:prstGeom prst="line">
            <a:avLst/>
          </a:prstGeom>
          <a:ln w="255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81240" y="5167440"/>
            <a:ext cx="1086120" cy="511200"/>
          </a:xfrm>
          <a:prstGeom prst="line">
            <a:avLst/>
          </a:prstGeom>
          <a:ln w="255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92560" y="4809960"/>
            <a:ext cx="336600" cy="881280"/>
          </a:xfrm>
          <a:custGeom>
            <a:avLst/>
            <a:gdLst/>
            <a:ahLst/>
            <a:rect l="l" t="t" r="r" b="b"/>
            <a:pathLst>
              <a:path w="195" h="555">
                <a:moveTo>
                  <a:pt x="159" y="3"/>
                </a:moveTo>
                <a:lnTo>
                  <a:pt x="0" y="0"/>
                </a:lnTo>
                <a:lnTo>
                  <a:pt x="0" y="555"/>
                </a:lnTo>
                <a:lnTo>
                  <a:pt x="195" y="552"/>
                </a:lnTo>
              </a:path>
            </a:pathLst>
          </a:custGeom>
          <a:noFill/>
          <a:ln w="25560">
            <a:solidFill>
              <a:srgbClr val="ff81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Kabel Bk BT"/>
              </a:rPr>
              <a:t>Formato das mensagens: extensões multimíd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0018-65DF-4DD7-85E5-8B5E8FD3ABCA}" type="slidenum">
              <a:t>57</a:t>
            </a:fld>
          </a:p>
        </p:txBody>
      </p:sp>
    </p:spTree>
  </p:cSld>
  <p:transition>
    <p:diamond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81532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: entrega e armazena no servidor do desti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tocolo de acesso: recupera mensagens do servido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00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P: Post Office Protocol [RFC 1939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utorização (agente &lt;--&gt;servidor) e downloa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MAP: Internet Mail Access Protocol [RFC 1730]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ais recursos (mais complex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anipulação de mensagens armazenadas n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: Hotmail, Yahoo! Mail et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0960" y="1397160"/>
            <a:ext cx="66009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50960" y="1397160"/>
            <a:ext cx="66009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tocolos de acesso ao corre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531800" y="1828800"/>
            <a:ext cx="6842160" cy="127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FBD8-D346-4E48-8BF1-9C2A3581421D}" type="slidenum">
              <a:t>58</a:t>
            </a:fld>
          </a:p>
        </p:txBody>
      </p:sp>
    </p:spTree>
  </p:cSld>
  <p:transition>
    <p:diamond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650880" y="1600200"/>
            <a:ext cx="43020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Fase de autor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mandos do cliente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user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declara nome do usuá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pass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asswor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spostas d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+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-ER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Fase de transação,</a:t>
            </a:r>
            <a:r>
              <a:rPr b="0" lang="en-GB" sz="1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list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lista mensagens e tamanh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retr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recupera mensagem pelo núme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dele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apag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449440"/>
            <a:ext cx="471456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+OK POP3 server signing of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3960" y="969840"/>
            <a:ext cx="41972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user alic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S: +OK user successfull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logged 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84880" y="990720"/>
            <a:ext cx="401400" cy="129528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25560">
            <a:solidFill>
              <a:srgbClr val="ff81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1800" y="1446120"/>
            <a:ext cx="2471760" cy="393840"/>
          </a:xfrm>
          <a:prstGeom prst="line">
            <a:avLst/>
          </a:prstGeom>
          <a:ln w="255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514600"/>
            <a:ext cx="403200" cy="373392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25560">
            <a:solidFill>
              <a:srgbClr val="ff81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33920" y="3886200"/>
            <a:ext cx="1676160" cy="228600"/>
          </a:xfrm>
          <a:prstGeom prst="line">
            <a:avLst/>
          </a:prstGeom>
          <a:ln w="25560">
            <a:solidFill>
              <a:srgbClr val="ff81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tocolo POP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AD29-0626-4BFF-A9C6-C3A01D5E0F23}" type="slidenum">
              <a:t>59</a:t>
            </a:fld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835668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524"/>
              </a:spcBef>
              <a:spcAft>
                <a:spcPts val="788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52280"/>
            <a:ext cx="914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706B-1BA9-4836-BDA9-D441A355E23D}" type="slidenum">
              <a:t>6</a:t>
            </a:fld>
          </a:p>
        </p:txBody>
      </p:sp>
    </p:spTree>
  </p:cSld>
  <p:transition>
    <p:diamond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77520" y="1828800"/>
            <a:ext cx="92250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Mais sobre POP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exemplo anterior usa o modo “download-and-delete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Bob não pode reler o e-mail se ele trocar 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ownload-and-keep”: cópias das mensagens em clientes diferen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P3 é stateless através das sess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antém todas as mensagens em um lugar: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ermite que o usuário organize as mensagens em pa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MAP mantém o estado do usuário através das sessõ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mes das pastas e mapeamentos entre os IDs da mensagem e o nome da pa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OP3 (mais) e I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2A67-835C-4287-84CA-A13A0A0B95B0}" type="slidenum">
              <a:t>60</a:t>
            </a:fld>
          </a:p>
        </p:txBody>
      </p:sp>
    </p:spTree>
  </p:cSld>
  <p:transition>
    <p:diamond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85640" y="1628280"/>
            <a:ext cx="8966160" cy="44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52280"/>
            <a:ext cx="914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B616-FB81-4C40-AA90-A18F1719B65F}" type="slidenum">
              <a:t>61</a:t>
            </a:fld>
          </a:p>
        </p:txBody>
      </p:sp>
    </p:spTree>
  </p:cSld>
  <p:transition>
    <p:diamond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82200" y="1371600"/>
            <a:ext cx="84330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essoas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muitos identificador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G, nome, passapor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Internet hospedeiros, roteador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dereços IP (32 bits) - usados para endereçar datagram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me”, ex.: gaia.cs.umass.edu - usados por human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P.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Relacionar nomes com endereços IP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Domain Name System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Base de dados distribuída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implementada numa hierarquia de muitos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servidores de no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Protocolo de camada de aplicação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hospedeiro, roteadores se comunicam com servidores de nomes para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resolver</a:t>
            </a:r>
            <a:r>
              <a:rPr b="0" lang="en-GB" sz="1900" spc="-1" strike="noStrike">
                <a:solidFill>
                  <a:srgbClr val="00ae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mes (translação nome/endereç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ta: função interna da Internet, implementada como protocol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a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mada de apl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mplexidade na “borda” da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DNS: Dominain Nam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D77D-D5BF-4503-9C7F-78F6B4FC25D3}" type="slidenum">
              <a:t>62</a:t>
            </a:fld>
          </a:p>
        </p:txBody>
      </p:sp>
    </p:spTree>
  </p:cSld>
  <p:transition>
    <p:diamond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D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71040" y="1500120"/>
            <a:ext cx="89773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DNS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me do hospedeiro para tradução de endereço 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ospedeiro alia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mes canônicos e ali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ail server alia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istribuição de carg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es Web replicados: estabelece o endereço IP para um nome can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or que não centralizar o DNS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nto único de falh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Volume de tráfeg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Base centralizada de dados dista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anuten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Não é escalável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lnSpc>
                <a:spcPct val="100000"/>
              </a:lnSpc>
              <a:buNone/>
              <a:tabLst>
                <a:tab algn="l" pos="0"/>
                <a:tab algn="l" pos="606600"/>
                <a:tab algn="l" pos="1368360"/>
                <a:tab algn="l" pos="2130480"/>
                <a:tab algn="l" pos="2892600"/>
                <a:tab algn="l" pos="3654360"/>
                <a:tab algn="l" pos="4416480"/>
                <a:tab algn="l" pos="5178600"/>
                <a:tab algn="l" pos="5940360"/>
                <a:tab algn="l" pos="6702480"/>
                <a:tab algn="l" pos="7464600"/>
                <a:tab algn="l" pos="8226360"/>
                <a:tab algn="l" pos="8988480"/>
                <a:tab algn="l" pos="9750600"/>
                <a:tab algn="l" pos="1051236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8D96-3F58-465F-85CC-C6A6EA3E1EF8}" type="slidenum">
              <a:t>63</a:t>
            </a:fld>
          </a:p>
        </p:txBody>
      </p:sp>
    </p:spTree>
  </p:cSld>
  <p:transition>
    <p:diamond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85440" y="4581000"/>
            <a:ext cx="92170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liente quer o IP para www.amazon.com; 1</a:t>
            </a:r>
            <a:r>
              <a:rPr b="0" lang="en-GB" sz="1900" spc="-1" strike="noStrike" u="sng" baseline="30000">
                <a:solidFill>
                  <a:srgbClr val="ff8103"/>
                </a:solidFill>
                <a:uFillTx/>
                <a:latin typeface="Trebuchet MS"/>
              </a:rPr>
              <a:t>a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 aprox.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consulta um servidor de raiz para encontrar o servidor DNS co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consulta o servidor DNS com para obter o servidor DNS amazon.co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 consulta o servidor DNS amazon.com para obter o endereço IP para www.amazon.co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Base de dados distribuída, hierárqu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052720" y="1905120"/>
            <a:ext cx="580068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FFAC-F9C8-4967-9F0C-F9E9D2511D97}" type="slidenum">
              <a:t>64</a:t>
            </a:fld>
          </a:p>
        </p:txBody>
      </p:sp>
    </p:spTree>
  </p:cSld>
  <p:transition>
    <p:diamond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6840" y="10288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ão contatados pelos servidores de nomes locais que não podem resolver um no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es de nomes raiz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Buscam servidores de nomes autorizados se o mapeamento do nome nã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or conhecid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seguem o mape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tornam o mapeamento para o servidor de nomes lo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0040" y="4495680"/>
            <a:ext cx="29048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istem 13 servidores de nomes raiz no mun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DNS: servidores de nomes ra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5595840" cy="330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DEE1-7BF7-4129-986C-61163645015E}" type="slidenum">
              <a:t>65</a:t>
            </a:fld>
          </a:p>
        </p:txBody>
      </p:sp>
    </p:spTree>
  </p:cSld>
  <p:transition>
    <p:diamond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9040" y="2133720"/>
            <a:ext cx="88358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ervidores top-level domain (TLD)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responsáveis pelos domínios com, org, net, edu etc. e todos os domínios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top-level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nacionais uk, fr, ca, jp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etwork Solutions mantém servidores para o TLD “com” T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ducause para o TLD “edu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ervidores DNS autorizados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servidores DNS de organizações, provêem nome de hospedeiro autorizado para mapeamentos IP para servidores de organizações (ex.: Web e mail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dem ser mantidos por uma organização ou provedor de serviç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Servidores TLD e autoritá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9F58-DB72-4F2D-B8DF-C90B64A6E278}" type="slidenum">
              <a:t>66</a:t>
            </a:fld>
          </a:p>
        </p:txBody>
      </p:sp>
    </p:spTree>
  </p:cSld>
  <p:transition>
    <p:diamond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3680" y="2057400"/>
            <a:ext cx="776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ão pertence estritamente a uma hierarqu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da ISP (ISP residencial, companhia, universidade) possui 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ambém chamado de “servidor de nomes default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ando um hospedeiro faz uma pergunta a um DNS, a pergunta é enviada para seu servidor DNS lo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ge como um proxy, encaminhando as perguntas para dentro da hierarqu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Servidor de nomes lo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5BD6-E9A0-4839-9269-8107D14954F7}" type="slidenum">
              <a:t>67</a:t>
            </a:fld>
          </a:p>
        </p:txBody>
      </p:sp>
    </p:spTree>
  </p:cSld>
  <p:transition>
    <p:diamond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3352680"/>
            <a:ext cx="360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hospedeiro em cis.poly.edu quer o endereço IP para gaia.cs.umass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041720" cy="493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3B12-289A-4793-A526-4DBB8F3ADD31}" type="slidenum">
              <a:t>68</a:t>
            </a:fld>
          </a:p>
        </p:txBody>
      </p:sp>
    </p:spTree>
  </p:cSld>
  <p:transition>
    <p:diamond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9960" y="1438200"/>
            <a:ext cx="34257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nsulta recursiv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fere a tarefa de resolução do nome para o servidor de nomes consult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rga pesada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nsulta encadead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contatado responde com o nome de outro servidor de nomes para conta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u não sei isto, mas pergunte a este servidor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nsultas recurs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041720" cy="493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19F4-705D-4B52-B4DF-C1B817EEF528}" type="slidenum">
              <a:t>69</a:t>
            </a:fld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776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liente-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Peer-to-peer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(P2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íbrida de cliente-servidor e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Arquiteturas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32B8-09A9-4800-8226-3BF30BF8748B}" type="slidenum">
              <a:t>7</a:t>
            </a:fld>
          </a:p>
        </p:txBody>
      </p:sp>
    </p:spTree>
  </p:cSld>
  <p:transition>
    <p:diamond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45820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a vez que um servidor de nomes apreende um mapeamento, ele armazena o mapeamento num registro do tipo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gistros do cache tornam-se obsoletos (desaparecem) depois de um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erto tem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es TLD são tipicamente armazenados em cache nos servidores d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me loc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canismos de atualização e notificação estão sendo projetados pelo IET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FC 21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http://www.ietf.org/html.charters/dnsind-charter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Kabel Bk BT"/>
              </a:rPr>
              <a:t>DNS: armazenando e atualizando registr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8A77-B0D3-4D9C-AF1B-DCC4E12BD7B2}" type="slidenum">
              <a:t>70</a:t>
            </a:fld>
          </a:p>
        </p:txBody>
      </p:sp>
    </p:spTree>
  </p:cSld>
  <p:transition>
    <p:diamond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Registros do D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58440" y="1219320"/>
            <a:ext cx="882828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61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2100" spc="-1" strike="noStrike">
                <a:solidFill>
                  <a:srgbClr val="618ffd"/>
                </a:solidFill>
                <a:latin typeface="Trebuchet MS"/>
              </a:rPr>
              <a:t>DNS: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 base de dados distribuída que armazena registros de recursos </a:t>
            </a:r>
            <a:r>
              <a:rPr b="0" lang="en-GB" sz="2100" spc="-1" strike="noStrike">
                <a:solidFill>
                  <a:srgbClr val="ff8103"/>
                </a:solidFill>
                <a:latin typeface="Trebuchet MS"/>
              </a:rPr>
              <a:t>(R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4509720"/>
            <a:ext cx="4334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ype = 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nam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é um domínio (ex.: foo.co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0">
              <a:lnSpc>
                <a:spcPct val="10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valu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é o endereço IP do servidor de nomes autorizados para este domín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44720" y="1945080"/>
            <a:ext cx="580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formato dos RR: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(name, value, type,tt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31840" y="1895400"/>
            <a:ext cx="5704200" cy="571680"/>
          </a:xfrm>
          <a:prstGeom prst="rect">
            <a:avLst/>
          </a:prstGeom>
          <a:noFill/>
          <a:ln w="25560">
            <a:solidFill>
              <a:srgbClr val="ff8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6640" y="2657520"/>
            <a:ext cx="4127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ype =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569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nam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é o nome do computa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569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valu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é o endereço 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2666880"/>
            <a:ext cx="4500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ype = C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nam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é um “apelido” para algum nome “canônico” (o nome rea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www.ibm.com é realm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ervereast.backup2.ibm.co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valu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é o nome can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86360" y="4710240"/>
            <a:ext cx="3929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ype = M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44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value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é o nome do servidor de correio associado com 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2EA8-9B0B-44C6-9549-96A13C218CCC}" type="slidenum">
              <a:t>71</a:t>
            </a:fld>
          </a:p>
        </p:txBody>
      </p:sp>
    </p:spTree>
  </p:cSld>
  <p:transition>
    <p:diamond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DNS: protocolo e mensag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46936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Protocolo DNS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mensagem de 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consulta</a:t>
            </a:r>
            <a:r>
              <a:rPr b="0" lang="en-GB" sz="1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resposta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, ambas com o mesmo 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formato de mensag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209680"/>
            <a:ext cx="38718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beçalho da ms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Identificaçã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número de 16 bits para consulta, resposta usa o mesmo núme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Flag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sulta ou respo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cursão deseja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cursão dispon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sposta é autoriz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4768920" cy="25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30B7-F7F9-4AA4-B86A-65F352C719A6}" type="slidenum">
              <a:t>72</a:t>
            </a:fld>
          </a:p>
        </p:txBody>
      </p:sp>
    </p:spTree>
  </p:cSld>
  <p:transition>
    <p:diamond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6019560"/>
            <a:ext cx="9902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DNS: protocolo e mensagens</a:t>
            </a:r>
            <a:endParaRPr b="0" lang="en-US" sz="19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568600" y="1981080"/>
            <a:ext cx="5051520" cy="31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8B50-0A0F-4F2C-A051-2D85641FADBE}" type="slidenum">
              <a:t>73</a:t>
            </a:fld>
          </a:p>
        </p:txBody>
      </p:sp>
    </p:spTree>
  </p:cSld>
  <p:transition>
    <p:diamond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902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Inserindo registros no DNS</a:t>
            </a:r>
            <a:endParaRPr b="0" lang="en-US" sz="19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780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emplo: empresa recém-criada “Network Utopia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gistrar o nome networkutopia.com num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“registrar”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(ex.: Network Solution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É necessário fornecer ao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registrar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os nomes e endereços IP do seu servidor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mes autorizados (primário e secundári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Registrar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nsere dois RRs no servidor TLD do domínio com:</a:t>
            </a:r>
            <a:br>
              <a:rPr sz="21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urier New"/>
              </a:rPr>
              <a:t>(dns1.networkutopia.com, 212.212.212.1, 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o servidor autorizado, inserir um registro Tipo A para www.networkutopia.com e um registro Tipo MX para networkutopia.co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omo as pessoas obtêm o endereço IP do seu site Web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7077-BB82-4859-B53E-B05DEDD711D4}" type="slidenum">
              <a:t>74</a:t>
            </a:fld>
          </a:p>
        </p:txBody>
      </p:sp>
    </p:spTree>
  </p:cSld>
  <p:transition>
    <p:diamond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61880" y="1628640"/>
            <a:ext cx="7594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8551-F748-412F-9F07-7E793F875F8C}" type="slidenum">
              <a:t>75</a:t>
            </a:fld>
          </a:p>
        </p:txBody>
      </p:sp>
    </p:spTree>
  </p:cSld>
  <p:transition>
    <p:diamond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680760" y="1828800"/>
            <a:ext cx="887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xemp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lice executa a aplicação cliente P2P em seu notebo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ntermitentemente, conecta-se à Internet; obtém novos endereços IP para cada conex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ede por “Hey Jude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aplicação exibe outros pares que possuem uma cópia de Hey Ju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lice escolhe um dos pares, Bo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arquivo é copiado do PC de Bob para o notebook de Alice: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quanto Alice faz o download, outros usuários fazem upload de Al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par de Alice é tanto um cliente Web como um servidor Web trans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Todos os pares são servidores = altamente escalávei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ompartilhamento de arquivos P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5F81-A7E6-4E56-852A-9CD0F8242AAF}" type="slidenum">
              <a:t>76</a:t>
            </a:fld>
          </a:p>
        </p:txBody>
      </p:sp>
    </p:spTree>
  </p:cSld>
  <p:transition>
    <p:diamond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698040" y="2162160"/>
            <a:ext cx="402588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jeto original “Napster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-281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ando um par se conecta, ele informa ao servidor central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ndereço 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teú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) Alice procura por “Hey Jude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5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3) Alice requisita o arquivo de Bo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2P: diretório centraliz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514656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555E-25C3-4744-BA0A-D2E54A663196}" type="slidenum">
              <a:t>77</a:t>
            </a:fld>
          </a:p>
        </p:txBody>
      </p:sp>
    </p:spTree>
  </p:cSld>
  <p:transition>
    <p:diamond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85440" y="2666520"/>
            <a:ext cx="792468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onto único de falh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Gargalo de desempenh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nfração de copyr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Transferência de arquivo é descentralizada, mas a localização de conteúdo é altamente centraliz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Kabel Bk BT"/>
              </a:rPr>
              <a:t>P2P: problemas com diretório centraliza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282A-AF08-49D4-A97D-F826ED36E6C1}" type="slidenum">
              <a:t>78</a:t>
            </a:fld>
          </a:p>
        </p:txBody>
      </p:sp>
    </p:spTree>
  </p:cSld>
  <p:transition>
    <p:diamond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61048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otalmente distribuí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m servidor cent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tocolo de domínio públ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uitos clientes Gnutella implementando o protoco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Rede de cobertura: gráf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resta entre o par X e o Y se não há uma conexão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odos os pares ativos e arestas estão na rede de sobreposi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resta não é um enlace fís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determinado par será tipicamente conectado a &lt;10 vizinhos na rede de sobreposi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Query flooding: Gnu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7A1F-DF76-447E-993C-8975A2FDA6B1}" type="slidenum">
              <a:t>79</a:t>
            </a:fld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Arquitetura cliente-servi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480" y="3200400"/>
            <a:ext cx="441504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lient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municam-se com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odem ser conectados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intermitentem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odem ter endereço IP dinâm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Não se comunicam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iretament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uns com os outr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0240" y="1447920"/>
            <a:ext cx="4064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100" spc="-1" strike="noStrike">
                <a:solidFill>
                  <a:srgbClr val="ff8103"/>
                </a:solidFill>
                <a:latin typeface="Trebuchet MS"/>
              </a:rPr>
              <a:t>Servidor: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Hospedeiro sempre ativ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ndereço IP perman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2320" indent="-195120">
              <a:lnSpc>
                <a:spcPct val="100000"/>
              </a:lnSpc>
              <a:spcAft>
                <a:spcPts val="788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Fornece serviços solicitados pelo cli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49773" b="0"/>
          <a:stretch/>
        </p:blipFill>
        <p:spPr>
          <a:xfrm>
            <a:off x="5748480" y="1828800"/>
            <a:ext cx="3624120" cy="369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272F-98ED-4DD5-BBDF-03EA3BB981D3}" type="slidenum">
              <a:t>8</a:t>
            </a:fld>
          </a:p>
        </p:txBody>
      </p:sp>
    </p:spTree>
  </p:cSld>
  <p:transition>
    <p:diamond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Gnutella: protoco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298600"/>
            <a:ext cx="39528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Mensagem de consulta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(query) é enviada pelas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exões TCP existen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s pares encaminham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a mensagem de consul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711"/>
              </a:spcAft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eryHit (encontro)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é enviado pelo 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minho rever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6172200"/>
            <a:ext cx="6272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scalabilidade: flooding de alcance limit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495680" y="1650960"/>
            <a:ext cx="5027760" cy="35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ABCC-D251-409E-B473-B8DB2A0D7B6F}" type="slidenum">
              <a:t>80</a:t>
            </a:fld>
          </a:p>
        </p:txBody>
      </p:sp>
    </p:spTree>
  </p:cSld>
  <p:transition>
    <p:diamond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1. Para conectar o par X, ele precisa encontrar algum outro par na rede Gnutella: utiliza a lista de pares candida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 X, seqüencialmente, tenta fazer conexão TCP com os pares da lista até estabelecer conexão com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3. X envia mensagem de Ping para Y; Y encaminha a mensagem de P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4. Todos os pares que recebem a mensagem de Ping respondem com mensagens de Po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5. X recebe várias mensagens de Pong. Ele pode então estabelecer conexões TCP adicion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704880"/>
                <a:tab algn="l" pos="1467000"/>
                <a:tab algn="l" pos="2228760"/>
                <a:tab algn="l" pos="2990880"/>
                <a:tab algn="l" pos="3753000"/>
                <a:tab algn="l" pos="4514760"/>
                <a:tab algn="l" pos="5276880"/>
                <a:tab algn="l" pos="6039000"/>
                <a:tab algn="l" pos="6800760"/>
                <a:tab algn="l" pos="7562880"/>
                <a:tab algn="l" pos="8325000"/>
                <a:tab algn="l" pos="9086760"/>
                <a:tab algn="l" pos="9848880"/>
                <a:tab algn="l" pos="1061100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Desconectando pares: veja o problema para trabalho de casa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Gnutella: conectando p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B371-292F-4411-9527-5B8373799259}" type="slidenum">
              <a:t>81</a:t>
            </a:fld>
          </a:p>
        </p:txBody>
      </p:sp>
    </p:spTree>
  </p:cSld>
  <p:transition>
    <p:diamond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0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da par é ou um líder de grupo ou está atribuído a um líder de gru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exão TCP entre o par e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u líder de gru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onexões TCP entre alguns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es de líderes de gru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líder de grupo acompanha o conteúdo em todos os seus “discípulo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plorando heterogeneidade: KaZ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683320" y="2347920"/>
            <a:ext cx="368928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30C8-93A1-4E4A-B0DE-431FA8D36E62}" type="slidenum">
              <a:t>82</a:t>
            </a:fld>
          </a:p>
        </p:txBody>
      </p:sp>
    </p:spTree>
  </p:cSld>
  <p:transition>
    <p:diamond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6840" y="1883880"/>
            <a:ext cx="83041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ada arquivo possui um hash e um descrit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cliente envia a consulta de palavra-chave para o seu líder de gru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líder de grupo responde com os encontro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ara cada encontro: metadata, hash, endereço 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 o líder de grupo encaminha a consulta para outros líderes de grupo, eles respondem com os encontr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O cliente então seleciona os arquivos para downlo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Requisições HTTP usando hash como identificador são enviadas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aos pares que contêm o arquivo desej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KaZ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BFD3-5A6F-42CE-A730-5F1AC20E3EEF}" type="slidenum">
              <a:t>83</a:t>
            </a:fld>
          </a:p>
        </p:txBody>
      </p:sp>
    </p:spTree>
  </p:cSld>
  <p:transition>
    <p:diamond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7765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Limitações em uploads simultâne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quisita enfileir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ncentiva priorida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Realiza downloads em parale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Artifícios do KaZ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3184-7790-4E59-9DCC-7A5846263E0D}" type="slidenum">
              <a:t>84</a:t>
            </a:fld>
          </a:p>
        </p:txBody>
      </p:sp>
    </p:spTree>
  </p:cSld>
  <p:transition>
    <p:diamond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4160" y="1628640"/>
            <a:ext cx="83563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940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990720"/>
                <a:tab algn="l" pos="1752480"/>
                <a:tab algn="l" pos="2514600"/>
                <a:tab algn="l" pos="3276720"/>
                <a:tab algn="l" pos="4038480"/>
                <a:tab algn="l" pos="4800600"/>
                <a:tab algn="l" pos="5562720"/>
                <a:tab algn="l" pos="6324480"/>
                <a:tab algn="l" pos="7086600"/>
                <a:tab algn="l" pos="7848720"/>
                <a:tab algn="l" pos="8610480"/>
                <a:tab algn="l" pos="9372600"/>
                <a:tab algn="l" pos="10134720"/>
                <a:tab algn="l" pos="10896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2E5C-F4A1-447D-AA79-251B58F30DD5}" type="slidenum">
              <a:t>85</a:t>
            </a:fld>
          </a:p>
        </p:txBody>
      </p:sp>
    </p:spTree>
  </p:cSld>
  <p:transition>
    <p:diamond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219320"/>
            <a:ext cx="88408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Objetivo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aprender a construir aplicações cliente-servidor que se comunicam usando soc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ocket AP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Introduzida no BSD4.1 UNIX, 198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plicitamente criados, usados e liberados pelas aplicações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adigma cliente-servido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ois tipos de serviço de transporte via socket API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atagrama não confiáv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nfiável, orientado a cadeias de bytes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573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  <a:ea typeface="Lucida Sans Unicode"/>
              </a:rPr>
              <a:t>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a interface 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local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riada por aplicaçõe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controlada pelo OS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(uma “porta”) na qual os processos de aplicação podem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tanto enviar quanto receber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mensagens de e para outro processo de aplicação (local ou remot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gramação de soc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20080" y="1585800"/>
            <a:ext cx="1164960" cy="400320"/>
            <a:chOff x="7120080" y="1585800"/>
            <a:chExt cx="1164960" cy="400320"/>
          </a:xfrm>
        </p:grpSpPr>
        <p:sp>
          <p:nvSpPr>
            <p:cNvPr id="466" name=""/>
            <p:cNvSpPr/>
            <p:nvPr/>
          </p:nvSpPr>
          <p:spPr>
            <a:xfrm>
              <a:off x="7120080" y="1585800"/>
              <a:ext cx="1164960" cy="40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9480" y="15876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D444-5BE0-4355-96E5-4D16E64AD5FC}" type="slidenum">
              <a:t>86</a:t>
            </a:fld>
          </a:p>
        </p:txBody>
      </p:sp>
    </p:spTree>
  </p:cSld>
  <p:transition>
    <p:diamond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gramação de sockets com 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49440" y="1419120"/>
            <a:ext cx="887544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ocket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uma porta entre o processo de aplicação e o protocolo de transporte fim-a-fim (UCP ou TC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7600"/>
                <a:tab algn="l" pos="1179360"/>
                <a:tab algn="l" pos="1941480"/>
                <a:tab algn="l" pos="2703600"/>
                <a:tab algn="l" pos="3465360"/>
                <a:tab algn="l" pos="4227480"/>
                <a:tab algn="l" pos="4989600"/>
                <a:tab algn="l" pos="5751360"/>
                <a:tab algn="l" pos="6513480"/>
                <a:tab algn="l" pos="7275600"/>
                <a:tab algn="l" pos="8037360"/>
                <a:tab algn="l" pos="8799480"/>
                <a:tab algn="l" pos="9561600"/>
                <a:tab algn="l" pos="1032336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erviço TCP: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transferência confiável de </a:t>
            </a: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bytes</a:t>
            </a:r>
            <a:r>
              <a:rPr b="0" lang="en-GB" sz="1900" spc="-1" strike="noStrike">
                <a:solidFill>
                  <a:srgbClr val="00ae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de um processo para out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7115040" cy="299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32B1-B57B-4BDE-ABF5-4EF4299464B7}" type="slidenum">
              <a:t>87</a:t>
            </a:fld>
          </a:p>
        </p:txBody>
      </p:sp>
    </p:spTree>
  </p:cSld>
  <p:transition>
    <p:diamond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76080" y="1142640"/>
            <a:ext cx="83912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liente deve contatar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rocesso servidor já deve estar em execu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deve ter criado socket (porta) que aceita o contato d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liente contata o servido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Criando um socket TCP lo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specificando endereço IP e número da porta do process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ando o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cliente cria o socket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: cliente TCP estabelece conexão com o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CP d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Quando contatado pelo cliente,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o TCP do servidor cria um novo socket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para o processo servidor comunicar-se com 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ermite ao servidor conversar com múltiplos clien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úmeros da porta de origem são usados para distinguir o cliente (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mais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	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no Capítulo 3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buNone/>
              <a:tabLst>
                <a:tab algn="l" pos="0"/>
                <a:tab algn="l" pos="517680"/>
                <a:tab algn="l" pos="1279440"/>
                <a:tab algn="l" pos="2041560"/>
                <a:tab algn="l" pos="2803680"/>
                <a:tab algn="l" pos="3565440"/>
                <a:tab algn="l" pos="4327560"/>
                <a:tab algn="l" pos="5089680"/>
                <a:tab algn="l" pos="5851440"/>
                <a:tab algn="l" pos="6613560"/>
                <a:tab algn="l" pos="7375680"/>
                <a:tab algn="l" pos="8137440"/>
                <a:tab algn="l" pos="8899560"/>
                <a:tab algn="l" pos="9661680"/>
                <a:tab algn="l" pos="1042344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5256720"/>
            <a:ext cx="990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Ponto de vista da apl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TCP fornece a transferência confiável, em ordem de by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(“pipe”) entre o cliente e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152280"/>
            <a:ext cx="914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gramação de sockets </a:t>
            </a:r>
            <a:r>
              <a:rPr b="1" lang="en-GB" sz="3600" spc="-1" strike="noStrike">
                <a:solidFill>
                  <a:srgbClr val="ff8103"/>
                </a:solidFill>
                <a:latin typeface="Kabel Bk BT"/>
              </a:rPr>
              <a:t>com</a:t>
            </a:r>
            <a:r>
              <a:rPr b="1" lang="en-GB" sz="3600" spc="-1" strike="noStrike">
                <a:solidFill>
                  <a:srgbClr val="ffffff"/>
                </a:solidFill>
                <a:latin typeface="Kabel Bk BT"/>
              </a:rPr>
              <a:t> </a:t>
            </a:r>
            <a:r>
              <a:rPr b="1" lang="en-GB" sz="3600" spc="-1" strike="noStrike">
                <a:solidFill>
                  <a:srgbClr val="ff8103"/>
                </a:solidFill>
                <a:latin typeface="Kabel Bk BT"/>
              </a:rPr>
              <a:t>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2E48-53E7-48E2-8347-D226B6B5EEAA}" type="slidenum">
              <a:t>88</a:t>
            </a:fld>
          </a:p>
        </p:txBody>
      </p:sp>
    </p:spTree>
  </p:cSld>
  <p:transition>
    <p:diamond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tream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é uma seqüência de caracteres que fluem para dentro ou para fora de um proces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tream de entrada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é agregado a alguma fonte de entrada para o processo, ex.: teclado ou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Um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stream de saída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é agregado a uma fonte de saída, ex.: monitor ou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Jargão st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6DE3-9441-4B4F-96A2-58AFF8230E34}" type="slidenum">
              <a:t>89</a:t>
            </a:fld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752480"/>
            <a:ext cx="41911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em sempre n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istemas finais arbitrários comunicam-se diretam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Pares são intermitentemente conectados e trocam endereços 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Ex.: Gnutel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Altamente escaláveis mas difícei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de gerenci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17460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Arquitetura P2P p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8826" t="0" r="0" b="0"/>
          <a:stretch/>
        </p:blipFill>
        <p:spPr>
          <a:xfrm>
            <a:off x="5676840" y="1828800"/>
            <a:ext cx="3695760" cy="37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5BBF-13EC-4922-BEF9-834FC8F85262}" type="slidenum">
              <a:t>9</a:t>
            </a:fld>
          </a:p>
        </p:txBody>
      </p:sp>
    </p:spTree>
  </p:cSld>
  <p:transition>
    <p:diamond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62040" y="1703520"/>
            <a:ext cx="445608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Exemplo de aplicação cliente-servido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1) Cliente lê linha da entrada-padrão do sistema (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inFromUser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stream), envia para o servidor via socket (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outToServer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strea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) Servidor lê linha d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3) Servidor converte linha para letras maiúsculas e envia de volta a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4) Cliente lê a linha modificada através do (</a:t>
            </a:r>
            <a:r>
              <a:rPr b="1" lang="en-GB" sz="1900" spc="-1" strike="noStrike">
                <a:solidFill>
                  <a:srgbClr val="000000"/>
                </a:solidFill>
                <a:latin typeface="Trebuchet MS"/>
              </a:rPr>
              <a:t>inFromServer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strea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1395360"/>
            <a:ext cx="9902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0" y="601956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1" lang="en-GB" sz="1900" spc="-1" strike="noStrike">
                <a:solidFill>
                  <a:srgbClr val="618ffd"/>
                </a:solidFill>
                <a:latin typeface="Trebuchet MS"/>
              </a:rPr>
              <a:t>Programação de sockets</a:t>
            </a:r>
            <a:r>
              <a:rPr b="1" lang="en-GB" sz="1900" spc="-1" strike="noStrike">
                <a:solidFill>
                  <a:srgbClr val="0033cc"/>
                </a:solidFill>
                <a:latin typeface="Trebuchet MS"/>
              </a:rPr>
              <a:t> </a:t>
            </a: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com TCP</a:t>
            </a:r>
            <a:endParaRPr b="0" lang="en-US" sz="1900" spc="-1" strike="noStrike" u="sng">
              <a:solidFill>
                <a:srgbClr val="0033cc"/>
              </a:solidFill>
              <a:uFillTx/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gramação de sockets </a:t>
            </a:r>
            <a:r>
              <a:rPr b="1" lang="en-GB" sz="3600" spc="-1" strike="noStrike">
                <a:solidFill>
                  <a:srgbClr val="ff8103"/>
                </a:solidFill>
                <a:latin typeface="Kabel Bk BT"/>
              </a:rPr>
              <a:t>com 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551560" y="1628640"/>
            <a:ext cx="3973320" cy="35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2CE3-4ED1-4F48-B67A-22679834FD9E}" type="slidenum">
              <a:t>90</a:t>
            </a:fld>
          </a:p>
        </p:txBody>
      </p:sp>
    </p:spTree>
  </p:cSld>
  <p:transition>
    <p:diamond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Interação cliente-servidor 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666880" y="1531800"/>
            <a:ext cx="4044960" cy="448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2705-8AE9-4CE6-B170-8E539C049296}" type="slidenum">
              <a:t>91</a:t>
            </a:fld>
          </a:p>
        </p:txBody>
      </p:sp>
    </p:spTree>
  </p:cSld>
  <p:transition>
    <p:diamond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262960" y="1881360"/>
            <a:ext cx="741528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io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net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ass TCPClient 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public static void main(String argv[]) throws Excep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sentence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modifiedSentence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ufferedReader inFromUser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BufferedReader(new InputStreamReader(System.in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ocket clientSocket = new Socket("hostname", 6789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OutputStream outToServer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DataOutputStream(clientSocket.getOutputStream(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8280" y="3794040"/>
            <a:ext cx="2277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tream de entr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800" y="4483080"/>
            <a:ext cx="24012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ocket client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onecta a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3720" y="5398920"/>
            <a:ext cx="2018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tream de saí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ligado a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54320" y="3890880"/>
            <a:ext cx="13320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398680" y="4151160"/>
            <a:ext cx="392040" cy="79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54320" y="4605480"/>
            <a:ext cx="13320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94000" y="4987800"/>
            <a:ext cx="458640" cy="32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4560" y="5519880"/>
            <a:ext cx="134640" cy="8046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424240" y="5617800"/>
            <a:ext cx="392040" cy="17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cliente Java (TC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65D7-6464-4F8B-AEA5-E40E0CE31449}" type="slidenum">
              <a:t>92</a:t>
            </a:fld>
          </a:p>
        </p:txBody>
      </p:sp>
    </p:spTree>
  </p:cSld>
  <p:transition>
    <p:diamond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cliente Java (TC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30520" y="1757880"/>
            <a:ext cx="72597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ufferedReader inFromServer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BufferedReader(ne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nputStreamReader(clientSocket.getInputStream()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entence = inFromUser.readLine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outToServer.writeBytes(sentence + '\n'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modifiedSentence = inFromServer.readLine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ystem.out.println("FROM SERVER: " + modifiedSentence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ientSocket.close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3840" y="1827360"/>
            <a:ext cx="2590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tream de entr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ligado a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6360" y="3305160"/>
            <a:ext cx="189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nvia linh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para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42880" y="4094280"/>
            <a:ext cx="146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Lê linh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71920" y="1919160"/>
            <a:ext cx="123840" cy="790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95760" y="2322000"/>
            <a:ext cx="371160" cy="17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12960" y="3357720"/>
            <a:ext cx="133560" cy="5857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852640" y="3665160"/>
            <a:ext cx="335160" cy="190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33840" y="4186080"/>
            <a:ext cx="13320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882880" y="4294080"/>
            <a:ext cx="320760" cy="79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BEC3-4B48-43F6-AAAD-A257818B5BE2}" type="slidenum">
              <a:t>93</a:t>
            </a:fld>
          </a:p>
        </p:txBody>
      </p:sp>
    </p:spTree>
  </p:cSld>
  <p:transition>
    <p:diamond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656800" y="1373760"/>
            <a:ext cx="764208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io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mport java.net.*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ass TCPServer 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public static void main(String argv[]) throws Excep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clientSentence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tring capitalizedSentence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erverSocket welcomeSocket = new ServerSocket(6789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while(true) {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Socket connectionSocket = welcomeSocket.accept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BufferedReader inFromClient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BufferedReader(ne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InputStreamReader(connectionSocket.getInputStream()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8080" y="3227400"/>
            <a:ext cx="2387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ocket de aceit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na porta 678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9840" y="4238640"/>
            <a:ext cx="2215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spera, n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de aceitação, p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ontato d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94160" y="5256360"/>
            <a:ext cx="1837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 stream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ntrada lig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a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5400" y="3309840"/>
            <a:ext cx="16344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9360" y="3843360"/>
            <a:ext cx="453960" cy="46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06680" y="4348080"/>
            <a:ext cx="13320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55720" y="4788000"/>
            <a:ext cx="655920" cy="1260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76440" y="5386320"/>
            <a:ext cx="163440" cy="738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646360" y="5579640"/>
            <a:ext cx="701640" cy="17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servidor Java (TC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3B9A-748A-471E-A1E7-DA78AB1DB123}" type="slidenum">
              <a:t>94</a:t>
            </a:fld>
          </a:p>
        </p:txBody>
      </p:sp>
    </p:spTree>
  </p:cSld>
  <p:transition>
    <p:diamond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851840" y="1552680"/>
            <a:ext cx="815868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DataOutputStream outToClient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new DataOutputStream(connectionSocket.getOutputStream()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lientSentence = inFromClient.readLine(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capitalizedSentence = clientSentence.toUpperCase() + '\n'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outToClient.writeBytes(capitalizedSentence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45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04760" y="2743200"/>
            <a:ext cx="1421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Lê linha 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8240" y="1712880"/>
            <a:ext cx="2266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Cria stream d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aída ligado a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97080" y="2814480"/>
            <a:ext cx="176400" cy="5335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394000" y="3112560"/>
            <a:ext cx="360360" cy="82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28760" y="1795320"/>
            <a:ext cx="14472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398680" y="2484000"/>
            <a:ext cx="309600" cy="176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6160" y="3886200"/>
            <a:ext cx="1698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Escreve linh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para o so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76560" y="3957480"/>
            <a:ext cx="176040" cy="571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373480" y="4218120"/>
            <a:ext cx="360360" cy="79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6840" y="4867200"/>
            <a:ext cx="2984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Fim do while loop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retorne e espere p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outra conexão do cl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3457080" y="4883040"/>
            <a:ext cx="17316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2752560" y="4551120"/>
            <a:ext cx="704880" cy="60804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servidor Java (TC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D271-3DB6-4AC3-BB29-D0E4D375DED6}" type="slidenum">
              <a:t>95</a:t>
            </a:fld>
          </a:p>
        </p:txBody>
      </p:sp>
    </p:spTree>
  </p:cSld>
  <p:transition>
    <p:diamond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81388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1 Princípios de aplicações de r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2 Web e HTT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3 FT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4 Correio eletrô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MTP, POP3, IMA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5 D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6 Compartilhamento de arquivos P2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7 Programação de socket com TC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2.8 Programação de socket com UD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2.9 Construindo um servidor We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758880"/>
                <a:tab algn="l" pos="1521000"/>
                <a:tab algn="l" pos="2282760"/>
                <a:tab algn="l" pos="3044880"/>
                <a:tab algn="l" pos="3807000"/>
                <a:tab algn="l" pos="4568760"/>
                <a:tab algn="l" pos="5330880"/>
                <a:tab algn="l" pos="6093000"/>
                <a:tab algn="l" pos="6854760"/>
                <a:tab algn="l" pos="7616880"/>
                <a:tab algn="l" pos="8379000"/>
                <a:tab algn="l" pos="9140760"/>
                <a:tab algn="l" pos="9902880"/>
                <a:tab algn="l" pos="1066500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Camadas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3F2C-38CC-4267-AD1D-BA5E43490FE6}" type="slidenum">
              <a:t>96</a:t>
            </a:fld>
          </a:p>
        </p:txBody>
      </p:sp>
    </p:spTree>
  </p:cSld>
  <p:transition>
    <p:diamond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76080" y="1484280"/>
            <a:ext cx="87627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UDP: não há conexão entre o cliente e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Não existe apresent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Transmissor envia explicitamente endereço IP e porta de destino em cada mensage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rebuchet MS"/>
              </a:rPr>
              <a:t>Servidor deve extrair o endereço IP e porta do transmissor de cada datagrama receb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ff8103"/>
                </a:solidFill>
                <a:latin typeface="Trebuchet MS"/>
              </a:rPr>
              <a:t>UDP: dados transmitidos podem ser recebidos fora de ordem ou perd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 algn="ctr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1" lang="en-GB" sz="1900" spc="-1" strike="noStrike">
                <a:solidFill>
                  <a:srgbClr val="ff8103"/>
                </a:solidFill>
                <a:latin typeface="Trebuchet MS"/>
              </a:rPr>
              <a:t>Ponto de vista da aplic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 algn="ctr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UDP fornece a transferência não confiável de grupos de by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 algn="ctr">
              <a:lnSpc>
                <a:spcPct val="100000"/>
              </a:lnSpc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618ffd"/>
                </a:solidFill>
                <a:latin typeface="Trebuchet MS"/>
              </a:rPr>
              <a:t>(datagramas) entre o cliente e o servid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 algn="ctr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 algn="ctr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00000"/>
              </a:lnSpc>
              <a:spcBef>
                <a:spcPts val="476"/>
              </a:spcBef>
              <a:spcAft>
                <a:spcPts val="711"/>
              </a:spcAft>
              <a:buNone/>
              <a:tabLst>
                <a:tab algn="l" pos="0"/>
                <a:tab algn="l" pos="603360"/>
                <a:tab algn="l" pos="1365120"/>
                <a:tab algn="l" pos="2127240"/>
                <a:tab algn="l" pos="2889360"/>
                <a:tab algn="l" pos="3651120"/>
                <a:tab algn="l" pos="4413240"/>
                <a:tab algn="l" pos="5175360"/>
                <a:tab algn="l" pos="5937120"/>
                <a:tab algn="l" pos="6699240"/>
                <a:tab algn="l" pos="7461360"/>
                <a:tab algn="l" pos="8223120"/>
                <a:tab algn="l" pos="8985240"/>
                <a:tab algn="l" pos="9747360"/>
                <a:tab algn="l" pos="1050912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Programação de sockets </a:t>
            </a:r>
            <a:r>
              <a:rPr b="1" lang="en-GB" sz="3600" spc="-1" strike="noStrike">
                <a:solidFill>
                  <a:srgbClr val="ff8103"/>
                </a:solidFill>
                <a:latin typeface="Kabel Bk BT"/>
              </a:rPr>
              <a:t>com U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3641-10E1-4D27-9495-8B2A635DBED6}" type="slidenum">
              <a:t>97</a:t>
            </a:fld>
          </a:p>
        </p:txBody>
      </p:sp>
    </p:spTree>
  </p:cSld>
  <p:transition>
    <p:diamond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Interação cliente-servidor: U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6950-110A-411C-A983-266140525445}" type="slidenum">
              <a:t>98</a:t>
            </a:fld>
          </a:p>
        </p:txBody>
      </p:sp>
    </p:spTree>
  </p:cSld>
  <p:transition>
    <p:diamond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1185840"/>
            <a:ext cx="9902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7080" y="152280"/>
            <a:ext cx="914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6640" indent="-836640">
              <a:lnSpc>
                <a:spcPct val="100000"/>
              </a:lnSpc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Kabel Bk BT"/>
              </a:rPr>
              <a:t>Exemplo: cliente Java (UD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909880" y="1539720"/>
            <a:ext cx="4024440" cy="44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9CBC-0205-4CC8-8708-3C1841218F70}" type="slidenum">
              <a:t>99</a:t>
            </a:fld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gner Zucchi</dc:creator>
  <dc:description/>
  <dc:language>en-US</dc:language>
  <cp:lastModifiedBy>Tatiana Allegro</cp:lastModifiedBy>
  <cp:revision>0</cp:revision>
  <dc:subject/>
  <dc:title>Slide sem título </dc:title>
</cp:coreProperties>
</file>